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A9F05-232F-40DB-BCAC-CE374A7A0B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46D14-2C60-4BD9-859E-A1B6151312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527C-FCFC-402A-A64E-B5EA2E63D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961A-6037-48CE-974D-4828C3DF9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4D4B-FD92-401B-9F04-655FF06FA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E201D9-0D19-40ED-8326-9F3216D3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26A94-E644-4527-9C17-6DE5418D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30A636-DC58-4E63-8D49-99B65D3E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A130BA-238C-4296-9F60-6E10C92AD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5A8BE-8AEE-4AE5-97EC-61EE4E63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4FAAA-38A2-4760-8216-6060AF4E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EFCF-0B1E-4C1B-B620-312982E51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2E0DA-7D93-4463-A845-4DCF8F221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474BA-3A64-4412-8D53-A4C661F8D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CB9277-846D-4160-8EB2-B26600DDC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FAD0-AA87-476A-A20B-33FAB0B38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1C5A7-70EC-4EFA-A8ED-08278DF20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6FEAB-91B8-46D9-834B-49EBD0092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57601F-5D0D-46CA-9777-F00D1899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ED2AA-D17C-47DB-86A9-F47F57EE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E970A1-A91E-4B15-9E42-37C90DEF1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BEE75-2360-42BD-914A-3221A97F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49F3AA-01D8-4A49-A99F-4D8BE68F8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78940-C5D8-4A53-A51F-5275A890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F09A6D-153A-4B98-84E4-89DD2CBB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496D78-FE95-432E-97B4-218562C52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1342-3621-40B6-A182-748D9BEFE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0A6563-9A55-4990-A00C-6D93CB43A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131DD-4D2C-4AA9-81DD-F81476701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7F194-BFFF-4981-9457-284F3DE55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DC1F34-319E-47DD-91FF-73064BC18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A9DE50-BC2B-4C2C-A49C-022723477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4C18A-3A5B-414B-8A26-5ECDF178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65B32-EC4A-42DD-87AD-A6434A8B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A5658-9372-49D2-9290-FB6212F2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65EB91-939B-49FC-BCBD-BD5D50716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049270-E735-43A3-A2D7-C4D2CE24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D8E1B-6841-426C-8A7C-9865169CF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870405-6E81-4EA0-A414-79812A0F4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63CEA7-0039-4261-8967-F394E2B52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EB4223-3328-42FC-936B-1B680E8F9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3C974-6127-4657-94A5-24C54366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D17EB-CDF9-42B4-A28C-370A4F913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B04C5-A614-42AC-A9A6-BC55CB5AD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F5DB66-30D8-4E13-B354-41EDE8871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F2660B-2F67-4C88-BF1C-BF101A162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6635D-2268-4F6B-A2A8-1E7E3064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670DF0-1603-4BC1-BC5D-1C2BE4660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025CC4-3D72-49B3-ADFD-13C542C4D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2A222E-55B1-4DE6-9ADF-BD7E86FC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591B54-6A9B-4AF3-9162-71DBF708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851B6-EF5D-4473-B36C-375CBA3B7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39CE89-3BE8-4CF6-9B8C-F97363DD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2A3F10-2D3D-4C8D-B260-20C988549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5E64D-8D71-4CEF-BBE4-454513D9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22BA2-8EF9-432E-A7EB-9C91E767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617A0B-6969-4859-A997-395953076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AF6879-D865-4BF9-AEBE-47B893C6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9E6D0-7134-4A86-A129-6276DA6D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2C6A1F-747B-4372-9EFB-7936697D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300D5F-14F0-4F1F-9E84-3F03E0D5A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751628-1E47-4984-A0BD-12FEDA6F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331448-27BC-49A0-B657-82502A7DC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43D56-C4D8-4683-8D61-C4AE219E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F74347-FB5A-4F2A-AB28-9CE08030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0DE04-2E29-42AD-85D8-676A7F1E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4ABC28-68BA-482C-9D89-5A889345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F1ACB7-6A3C-4BEA-AE67-05004809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CDB646-F047-4289-AC76-368FEB2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6DA15F-2E7A-4EA6-BAFB-A2D064843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211AF2-33BC-4383-ABA2-C9B9D2CCD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239C81-BD8B-4B09-A1BB-0278E27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6A104-6DE2-4EC4-A144-9A564F4C5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A6E24-2C0C-4372-9DA8-477041C1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915844-7CD3-43C2-9673-75BFA03F2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808E2D-0868-4EF1-AC6A-00CBACBC3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D40F97B-ABB2-4B26-9CA3-2C88942C0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32155A-C86A-433C-BB0E-8A2CCDF1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F8E80C-C34C-407C-A78D-C8125DCEE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332885-E766-4121-BF51-3BC5DD4A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A98011-1689-4D0A-BB23-7D92C9BE3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EA807-7271-48F7-84B8-BCCE22AD6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834E4-B653-4C2B-A599-C57978E4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5A0091E-7C97-40D2-A783-CA5F11A62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3E6A8F-2F5C-4080-B08E-3344E24C1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139AA4-7E8F-4CEC-BC63-1DAFE3E8E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441B00-B485-4AEE-AE21-0840663D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D82D2D-1073-4356-B7D6-E6877B35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BE61C5-644A-4652-8381-C8D731C9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F9211-95AA-42C6-872B-4FCE1733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ECC552-DEF9-4063-B348-645D79DC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9A81AD-624E-449B-98E4-9DF08E62E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BD44E8-B9F2-43C1-BE3E-AB61FBEB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59142-BCB3-4068-9393-C28E1FCFA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1A175C-AE3D-45B9-BBA4-B4AF6819D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84B1C7-14A7-40CA-880C-2AE8C93E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FA17F8-8360-4703-A5A5-2FA82084C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319C77-20E8-4610-966D-EC0F0B6C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3E3547-CB39-4019-8F16-CE68820FA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351406-A172-4F7F-8AC8-1BB6862E7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29A35-DFA8-44B1-B5A4-21A67598C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BD2D69-88B5-40A4-81A1-AC5B8CBF4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DFF456-1455-427F-86D3-0E5BC64A4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7B133D-E64C-4108-BE20-76A264F6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826A3D-4456-417D-A4EB-7CCBDB151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B881B-873C-4A19-A236-EB410C16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39E315-D419-4108-848B-09F620403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2E791F-4C8E-4205-879B-2BA0FD83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147DE6-3685-439F-85B3-F094483B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B00A24-550A-4E0A-AEA1-723800C3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F650C0-C3B6-4CE6-B288-813CC1B3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683BC9-70C5-4D9E-82FA-A2E0641B6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B9AA07-05E1-4F7C-93D4-71A077E02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BE8096-7116-4E3F-9307-82CC1653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C3C9-1B33-43DC-8D41-97A2F935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2571A-E4AE-40DA-AA25-D9B988F5C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9F95CA-C567-4757-9FB9-E0FE0D7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4A9B4A-FD17-4CB2-ABAA-748E7514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DA37B0-BABD-4B89-ACF9-612AC4F1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1E0218-3EFD-452C-94C2-7A6A968F4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D8B547-6037-4CC9-8620-09B5CB219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BDB08-F3D6-4FDA-8E9F-E856FA4E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C9C850-1767-41F1-96C0-93CFD1EE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DFCCCD-577B-4A4B-8D9E-01262A314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B0ED7-E9C9-49E6-9797-6208EA46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21F43-D98D-4A5A-AE85-CA46FF33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000C64-2824-40D8-A5D2-F6C3A344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4003C-66D1-4B4B-A84F-58DB2D155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5D478-D907-44F7-8EA1-F2A48A1A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5433D-CC13-4817-97CB-D30E8A45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2ADF-5024-4E0E-9F62-DB775823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470FA-D968-40B1-B4B3-F1C36FBC2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3F4D-0B64-4828-9BE3-7AAA8E35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657D6-50BD-46D6-BEC1-137E817DF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474D2-925C-4E67-9B9A-E20D765D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71A7BB-C5AB-4973-96C9-C72CA8648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B25D3-40FD-4E5A-9C40-008DAA3C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7593E7-3226-4A8A-9E7E-AE3BB0E15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0C7FE7-3022-4C9B-A5DF-A043AF1C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E9754-FD4F-4C41-89C2-246AA597B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BFF9A-FE50-487C-ABAD-0DD7F5AEA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2B13-0A30-447C-9CAF-F0B6DFEFE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873EF8-CEF6-4D1E-8184-8A2C78E1A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5FD72-9CAF-4821-842C-21D8786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B2EEBB-FA79-4BD2-AD8C-9031C25D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21B8B-6E0D-4458-9EFD-304FBC41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7E0BF-B7A2-46EA-8C3F-17B9B071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20E7E-CC18-45C2-A192-A8E2D475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C9492-6574-45C8-A02E-F128395B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55877F-7089-4CC6-BEFC-6D76F2EE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831E0-F4E4-45CD-AA32-BA1864BE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AEAA48-8F82-498C-93BA-10F5907B3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B6ED-99EA-4B37-960E-82A953E1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D55F2-4543-4DD0-A291-D7E78BC14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22A83-8AC1-4910-BFA2-EBAA5ED42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223AB-B882-43EE-BC5C-A19424EF5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F7135-7008-4CA2-863B-5F212C9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33CD97-6E1B-4E0D-9470-DA4B72D8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93F0B-DB56-4F4C-96C0-6128D2C1E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5D6D0C-4C74-44B3-9C54-6100B1F85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916A6-C68A-48B7-B147-9EF92D6A2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B4AAAC-7955-4F83-A784-A0AC9620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48EAE-F773-40DC-8622-32735A64D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4157-787C-47E3-90F3-A6A95827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A03F3-35C9-493E-84B0-E13EE364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BA4269-19DF-4987-B291-ED11FDF2C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5FFC5-8791-4F10-AD88-4E3BD4022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B13E-2A89-4CBC-ADF9-B5D05540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13E4A-417F-4C4D-9E57-042D53D96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004C77-C405-4D81-A852-E10E46D20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E6668-34E2-414F-95CD-49215561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057BCF-DFA2-4253-B5D6-F3D6D11DF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A122EB-3A2B-4283-9AD8-9367A847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2EAEB-BFCD-42AE-A7DC-909DA2A3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CE1A-182E-491A-AC40-9ABD7D81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3C7D9-5403-4A4C-AB6E-72A90ACAA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259520-1057-417F-9EE0-6E6D5CAB7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4A2C4-E1DE-4A09-9DE1-73DABB02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F8FF73-F22C-4352-B0AE-9F56F2636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0816DB-3C49-415D-8082-D1F23DB4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6FD73A-8DB9-4E29-91B6-4694EDC6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2974F6-EF1B-4223-A48E-46A0E31A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30622-F553-4B61-ACF1-6A7831DA8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816837-A99A-4CB4-AF15-D684A9B7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FB988-37B4-4909-9546-19478F29C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217D-6CED-4EBD-9EAF-2EE812494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5F0FA9-7F8F-4E4E-8457-9BCAA6E1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E1DAE-81C9-4270-B101-82438FA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90773-6F76-449C-ABDD-F13055B9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CB411-2A11-42B5-A561-FAB3162F2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F47137-E594-4D14-B907-7CF96CB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7418BE-42E0-421B-A0D5-34F39D7E2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AE072-26AD-4F02-8DD2-C96FD1BF4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2B903-474C-44BA-A7AA-5F58641C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F25B1-886E-489B-8E49-506E6AAE1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7B023-BAE9-4BAF-B783-B292CEDC9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BC67-11D2-47F2-B0E3-C7AC4B3B5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779040" y="380880"/>
            <a:ext cx="7583400" cy="484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299E53-A6E2-44E3-98C3-8ABDF119E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473DE-D67A-4F44-A7D2-56E4615D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7EA02-003D-420D-AAF1-6722DB21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02077-FAA2-4A0A-AA39-88798EFF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779040" y="4027320"/>
            <a:ext cx="758340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99F9E-57E6-41FE-8076-763A1EE64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64880" y="182880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77904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664880" y="4027320"/>
            <a:ext cx="370044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50DB28-A1A5-456B-927C-3D31AA49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34296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5906880" y="182880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77904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34296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5906880" y="4027320"/>
            <a:ext cx="2441520" cy="200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A17D4D-B278-40B7-BBF1-819C66E0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310D9-7DE3-4FB7-AA86-B342D5981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EAC938-F45A-4B2F-8A06-293D0ED82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F26339-E7F3-4986-9168-57533DE00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B443-2090-4CBF-BF2D-B6D1A945BF7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dt" idx="28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ftr" idx="29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 type="sldNum" idx="30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27060-918B-4DA7-9730-C175AEBDF937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FF71-3820-4C49-B968-3F2F90977A0F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Overlay-ContentCaption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4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5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6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2298-5DAD-47F9-B77D-97CAD14DF7E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Overlay-PictureCaption.png"/>
          <p:cNvPicPr/>
          <p:nvPr/>
        </p:nvPicPr>
        <p:blipFill>
          <a:blip r:embed="rId2"/>
          <a:stretch/>
        </p:blipFill>
        <p:spPr>
          <a:xfrm>
            <a:off x="449280" y="187200"/>
            <a:ext cx="8535960" cy="648360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7"/>
          </p:nvPr>
        </p:nvSpPr>
        <p:spPr>
          <a:xfrm>
            <a:off x="388584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8"/>
          </p:nvPr>
        </p:nvSpPr>
        <p:spPr>
          <a:xfrm>
            <a:off x="5866920" y="6288120"/>
            <a:ext cx="2676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8101E-E80B-485B-85E9-8B43C891A0D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296C-6499-4872-B8DB-EBB92EE29C92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" name="Picture 8" descr="Overlay-PictureCaption-Extras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dt" idx="43"/>
          </p:nvPr>
        </p:nvSpPr>
        <p:spPr>
          <a:xfrm>
            <a:off x="380880" y="6288120"/>
            <a:ext cx="1865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ftr" idx="44"/>
          </p:nvPr>
        </p:nvSpPr>
        <p:spPr>
          <a:xfrm>
            <a:off x="3325320" y="6288120"/>
            <a:ext cx="5218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sldNum" idx="4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E2DE-5FC3-4741-B20E-5FF3C7DB700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9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dt" idx="4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ftr" idx="4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 type="sldNum" idx="4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B26-1CB2-4758-A5EB-FE646D70F4C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4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5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5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F7E2-06A6-48EB-B3B3-D92D1E1719B4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8" descr="Overlay-TitleSlide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B380-36AE-45D0-A48B-E35DC53AB5FE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DAC3-4892-49E2-A67D-B6A5C525E6BF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46FF-0192-4263-92E5-8A965FCBBD35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Overlay-SectionHeader.png"/>
          <p:cNvPicPr/>
          <p:nvPr/>
        </p:nvPicPr>
        <p:blipFill>
          <a:blip r:embed="rId2"/>
          <a:stretch/>
        </p:blipFill>
        <p:spPr>
          <a:xfrm>
            <a:off x="158760" y="187200"/>
            <a:ext cx="8826480" cy="64836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8ab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112B8-A8FA-458A-993B-072BC2CDC187}" type="datetime">
              <a:rPr b="0" lang="en-US" sz="1200" spc="-1" strike="noStrike">
                <a:solidFill>
                  <a:srgbClr val="38abed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0D277-39CA-4501-BBCC-BDEAF08FD451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69A8-C007-4898-8FC0-3A042EAF7DBA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16" name="Straight Connector 9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Straight Connector 10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874800" y="2286000"/>
            <a:ext cx="356220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Straight Connector 12"/>
          <p:cNvSpPr/>
          <p:nvPr/>
        </p:nvSpPr>
        <p:spPr>
          <a:xfrm>
            <a:off x="4816440" y="2286000"/>
            <a:ext cx="356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42B1-1F61-4465-9E3C-F7C5B00314C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79F8-9B4E-4CFC-9E26-6E907E04421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 type="dt" idx="22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 type="ftr" idx="23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 type="sldNum" idx="24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D535-901B-4686-A5F8-E61589651163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ound Diagonal Corner Rectangle 7"/>
          <p:cNvSpPr/>
          <p:nvPr/>
        </p:nvSpPr>
        <p:spPr>
          <a:xfrm>
            <a:off x="190440" y="190440"/>
            <a:ext cx="8764560" cy="6478560"/>
          </a:xfrm>
          <a:prstGeom prst="pie">
            <a:avLst/>
          </a:prstGeom>
          <a:gradFill rotWithShape="0">
            <a:gsLst>
              <a:gs pos="0">
                <a:srgbClr val="38abed"/>
              </a:gs>
              <a:gs pos="100000">
                <a:srgbClr val="1b386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8" descr="Overlay-ContentSlides.png"/>
          <p:cNvPicPr/>
          <p:nvPr/>
        </p:nvPicPr>
        <p:blipFill>
          <a:blip r:embed="rId2"/>
          <a:stretch/>
        </p:blipFill>
        <p:spPr>
          <a:xfrm>
            <a:off x="150840" y="187200"/>
            <a:ext cx="8827920" cy="64818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79040" y="380880"/>
            <a:ext cx="7583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79040" y="1828800"/>
            <a:ext cx="7583400" cy="420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3" marL="11430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4" marL="1425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5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lvl="6" marL="1425600" indent="-282600">
              <a:spcBef>
                <a:spcPts val="2001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380520" y="6288120"/>
            <a:ext cx="1887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305160" y="6288120"/>
            <a:ext cx="5238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403840" y="219240"/>
            <a:ext cx="493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b386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A877-A1E7-4930-B641-815F028D67CB}" type="slidenum">
              <a:rPr b="0" lang="en-US" sz="1200" spc="-1" strike="noStrike">
                <a:solidFill>
                  <a:srgbClr val="1b3861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DocL7AfIRo" TargetMode="External"/><Relationship Id="rId2" Type="http://schemas.openxmlformats.org/officeDocument/2006/relationships/slideLayout" Target="../slideLayouts/slideLayout12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FR4S1BqdFG4&amp;feature=related" TargetMode="External"/><Relationship Id="rId2" Type="http://schemas.openxmlformats.org/officeDocument/2006/relationships/slideLayout" Target="../slideLayouts/slideLayout12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2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1599840" y="2492280"/>
            <a:ext cx="67626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Talking With Students About Mindsets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1599840" y="3967200"/>
            <a:ext cx="67626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y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’m here to teach you, not to judge you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elp you think, learn and continue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have high expectations and will not settle for anything less than your best, but I will show you how to reach those expectations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 will learn with you as I am always wanting to grow smarter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If you are behind (or fall behind), I will teach you how to catch up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5803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Your Job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90720" y="160020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open to learning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Put in effort to develop your skills to grow smarter EACH 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Read difficult books and work to understand what you read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Write everyday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Help me help you - If you don’t give anything, you can’t expect anything. Success does not come to you, you must come to it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8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rebuchet MS"/>
              </a:rPr>
              <a:t>Be accountable and responsible for your learning - That means more than just showing up.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mewor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Before you fall asleep, and again when you wake up, say to yourself…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rebuchet MS"/>
              </a:rPr>
              <a:t>Smarter is not something you are. It is something that you get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67626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rebuchet MS"/>
              </a:rPr>
              <a:t>Mind Sets</a:t>
            </a:r>
            <a:endParaRPr b="0" lang="en-US" sz="5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subTitle"/>
          </p:nvPr>
        </p:nvSpPr>
        <p:spPr>
          <a:xfrm>
            <a:off x="1447560" y="2895120"/>
            <a:ext cx="67626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If you fail a test, what are some things your inner voice might say?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If an inner voice says, “I’m stupid…”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n we need to use cognitive think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e look at the facts and evidence more closely to draw an accurate conclusion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questions might we ask in order to get to the truth of the matter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14400" y="233172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hat other reasons might there be (other than stupidity) for failing a test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7696080" cy="198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br>
              <a:rPr sz="2900"/>
            </a:br>
            <a:br>
              <a:rPr sz="2900"/>
            </a:br>
            <a:r>
              <a:rPr b="0" lang="en-US" sz="4000" spc="-1" strike="noStrike">
                <a:solidFill>
                  <a:srgbClr val="ffffff"/>
                </a:solidFill>
                <a:latin typeface="Trebuchet MS"/>
              </a:rPr>
              <a:t>After you come to the conclusion that it isn’t stupidity…</a:t>
            </a:r>
            <a:endParaRPr b="0" lang="en-US" sz="4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15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these questions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What can I learn from this 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can I improve so I do better next time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 is this man laughing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094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sDocL7AfIRo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Why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s no one telling these babies that the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re stupid because they don’t know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ow to talk using real words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They just haven’t learned yet!!!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7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How does the brain work?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abf24d"/>
                </a:solidFill>
                <a:uFillTx/>
                <a:latin typeface="Trebuchet MS"/>
                <a:hlinkClick r:id="rId1"/>
              </a:rPr>
              <a:t>http://www.youtube.com/watch?v=FR4S1BqdFG4&amp;feature=related</a:t>
            </a: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/>
          </p:nvPr>
        </p:nvSpPr>
        <p:spPr>
          <a:xfrm>
            <a:off x="837720" y="304560"/>
            <a:ext cx="769644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One day, in a class that is really important to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, and that you like a lot, the teach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turns an important paper worth a lot of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oints. You got a ‘D’. You are very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isappointed. That evening, on your way bac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ome, you find a parking ticket on your car.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ustrated, you call your best friend to share 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our experience but are sort of brushed off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hat would you think? What would you feel? What would you do? 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Write me a paragraph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Brain Growth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ake Synapse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Ask yourself each night…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did I learn today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mistake did I make today that taught me something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y did I try hard at today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What was the result? 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-2952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rebuchet MS"/>
              </a:rPr>
              <a:t>How can I get better?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1" marL="577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Think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37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fe isn’t fair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body likes me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ings never work out for me.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72392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try harder in class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need to be more careful where I park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 wonder if my friend is having a bad day, too.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6858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Mind Sets – What They </a:t>
            </a:r>
            <a:r>
              <a:rPr b="1" lang="en-US" sz="3800" spc="-1" strike="noStrike">
                <a:solidFill>
                  <a:srgbClr val="ffff00"/>
                </a:solidFill>
                <a:latin typeface="Trebuchet MS"/>
              </a:rPr>
              <a:t>Do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55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Fixed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 noth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y in bed all da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t chocolate ice c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Yell at someo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rebuchet MS"/>
              </a:rPr>
              <a:t>Growth Minds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udy a different way and ask for hel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ay the ticket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Work things out with my friend the next time we speak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Think about it 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761760" y="1600200"/>
            <a:ext cx="7924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Was there death an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estruction, or just a bad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grade, a ticket and a 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disappointing phone call?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/>
          </p:nvPr>
        </p:nvSpPr>
        <p:spPr>
          <a:xfrm>
            <a:off x="990720" y="68544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Becoming is better than being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Potential means developing your skills: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ith effort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860400" indent="-282600">
              <a:spcBef>
                <a:spcPts val="6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ver time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You aren’t a failure until you start to blame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7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ffort is the </a:t>
            </a:r>
            <a:r>
              <a:rPr b="0" lang="en-US" sz="3800" spc="-1" strike="noStrike">
                <a:solidFill>
                  <a:srgbClr val="ffff00"/>
                </a:solidFill>
                <a:latin typeface="Trebuchet MS"/>
              </a:rPr>
              <a:t>KEY</a:t>
            </a: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 to success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ople are all born with a love of learning. (think about babies), but a fixed mindset can undo it.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73960" indent="-27396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hallenge yourself to do something you have never done before - something difficult that you never though you could do. Picture it and think about how you will feel when you have accomplished it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Picture Thomas Edison inventing the light bulb…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609480" y="21337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ere is he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What is he doing?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282600" indent="-282600"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escribe what you imagine as vividly as you can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rebuchet MS"/>
              </a:rPr>
              <a:t>Edison was not a loner!</a:t>
            </a:r>
            <a:endParaRPr b="0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He had 30 assistants, including well trained scientists, helping him in a state-of the-art laboratory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It did not happen suddenly - It happened over time. It took several attempt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  <a:p>
            <a:pPr marL="279720" indent="-279720">
              <a:lnSpc>
                <a:spcPct val="90000"/>
              </a:lnSpc>
              <a:spcBef>
                <a:spcPts val="2001"/>
              </a:spcBef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Edison never stopped learning and being curious.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0T22:44:56Z</dcterms:created>
  <dc:creator>default</dc:creator>
  <dc:description/>
  <dc:language>en-US</dc:language>
  <cp:lastModifiedBy>Joyce Fouts</cp:lastModifiedBy>
  <dcterms:modified xsi:type="dcterms:W3CDTF">2013-06-20T23:20:59Z</dcterms:modified>
  <cp:revision>33</cp:revision>
  <dc:subject/>
  <dc:title>Talking With Students About Mindsets</dc:title>
</cp:coreProperties>
</file>