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A10C-4D1E-4FEF-8A15-67CCF755627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B360B-61F3-4637-9124-710125B646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6B2E-E70F-4B73-9B97-743BE97554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2ED7-CDB3-4FFD-B4A9-77F1CAE41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F3F71-A974-4BE3-B953-94A2121A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7DF8B-808C-49D1-9E7D-DF83241B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E1B85-7D74-40F5-940E-82780A3C9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3ADFD-1EB1-4E14-A72C-20577F6E7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17E57-83F0-4D63-A712-489B8809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8C6B46-BD6B-4D2B-8B75-FCA70A6E6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A2A27B-DBCB-4F36-957B-5EAD1395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940A97-D8BD-42DB-A579-7579E019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23F30-8D1F-45B7-98EA-5476DFF89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3A178C-59C8-4D78-8FF1-A04D54AB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61D96B-60EC-496C-9771-114FF0DC0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288E-7D66-4DE4-9F70-56044FCEB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DD974D-425C-4668-A84F-70B3B0C5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DB76C-B03D-4EDB-AF85-6900A637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5AA348-A282-4665-9816-9AA7B87C1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66A13-69FC-4966-9A3E-AD20C0C1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20B52F-7921-4AF4-A61A-FDA796819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EA7B3-5CA7-44F6-8DCE-22A97B2BF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87FF66-1759-44FC-8D68-27ABE875F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CA03B9-C29C-41F9-8E10-D1B29324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9935A-8218-4878-86C7-6EC3E574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615A41-CCB8-4085-A3C3-CD9F88DDD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0688-B72B-4A35-B71B-F292ECD40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E634B3-BFCB-4FB6-AC0C-E42219978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C04B4-42A5-4816-A19A-F6A2A80E6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6D86D2-0559-4A45-BA14-551F3C29D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247326-D1EC-4DEA-86F1-B87794B7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CA546D-857D-48E0-A8C7-2D6CB93D7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A349D-A46F-4E7E-9054-D7188119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180E8-8C39-40BA-A38D-52011738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848ABB-7DDC-47E1-AB20-F76413F9B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362023-F796-405A-9A08-541EDCA61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63D159-40DF-4D4E-879B-94839247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FB8E5-1724-4497-90BA-15D8BBD8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D7F174-A3BA-445F-A4EE-676A1A3A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188F30-A7EF-4F3B-8414-66F8C7F21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AD0E7-4559-4098-8FAB-F6ED610E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D24ED-CAA1-40C3-B63A-9164EEEB2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D8DCC-6DCA-4810-92BE-AF7B991CD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8FA011-F03C-4986-A2E5-68D9D5A61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197D16-8DEA-4CE7-AD2B-FB32B2442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6A8176-B03A-481A-B9C1-2A0EEEB3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83D22D-DE4E-425B-A3C6-316550067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34FCC-A15E-4559-90F5-6930717F0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D0CCD6-D97C-4C17-BC5E-F0082027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03A5D6-235C-4C90-972C-76532DB6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B1CC99-35BF-434C-9B18-1774A542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2D2817-1D66-4FC9-A852-2250AE818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FE7A50-C6B5-450D-B90D-C25148450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41C35C-AA38-420B-A293-233102C25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346B3-15FD-477A-AA55-78C8C1641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5E18FA-D1D0-42BC-9AB7-33F71E95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D51BF5-5F2A-492B-A83F-B4E0E56D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986E1D-6144-4AA7-8232-9A749D72C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A25E94-2FA6-4791-95EF-4393E869D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39EF8C-C7A3-4BF6-94F2-29FE2C0B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8ED8BF-E4FA-4FE2-B554-FA4E6DB71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7A1A12-051D-443A-8DDE-C596512F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6322B-44B9-4D58-816D-FC5897DB3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B2D721-8A5E-48E1-AA76-E077A842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115E6B-FCB8-477F-8FE5-20E94B220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844068-AC36-491E-8677-FB19A2FA1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8AA838-5A80-48A3-B75B-7F984021E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66B566-2E21-43E5-B577-27F7F790D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F0791D-F8CD-44EB-BE7C-3D7BB296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9C4243-E165-497D-BFC6-CFDFA7E4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971A9A-9C5E-44B2-84EC-1794172E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39B973-7DE7-44D2-AAB4-EF3270A27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8C0510-0E57-4AFF-BB0E-83F8E8A3B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CF4B24-303B-42C0-8BED-BEC5FFD78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BC5C28-F019-4807-8F34-3356C4EE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15727-8DC5-44AE-B928-3F5ABA12E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8B69A8-4790-425F-A675-ABB5B5D48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162710-F92C-4339-AD88-5128593D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B8E27C-C094-4FC5-B382-D914E0EAE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D86BE9-01DD-4969-B42C-095D9B7BA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354041-E9E5-4946-AECC-D5AB58B7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3524DA-6A98-4F3E-8087-B6EEF8EC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438713-7AFD-4EF1-AC0D-14C385AA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AB0D2C-32E8-4D81-BA63-6B1426B8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929EEF-DB16-4768-AB0A-F97DF7EE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12256-A901-4A0E-83B7-7A194A1F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31FFD8-9477-4EFF-A326-6247CA26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A14B7C-02AC-49EC-AC4D-EC4EA691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536E862-E37A-4E7E-B663-30D0DD2F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489459-B598-4A46-B75C-D741C749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388293-1C66-428F-A5F0-302C084A4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58677F-B6F7-4389-B698-6E6F94F6E2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3667C8-F2EC-490E-B9FF-79C54B069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EA3F2D-531E-4399-9341-84C2FDE82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313511-7CE8-45D9-B7DC-C7C2D3E67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6D516E-65B9-40B4-8FEF-6A9D380A6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081D66-CA75-43CE-B088-D3ABF87C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AC485E-CEC4-4990-8678-61FFC8D5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A85D73-C819-49B2-986A-044174F44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AA4D30-645F-4079-A305-3FA4962C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8C153F-7223-4388-AC24-62CC2306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A11943-D76A-421E-A0C9-BADFFF61C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99AFD7-535F-4C48-A55D-385FE68E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D104D5-5741-4D2A-9AF2-DDBBD63AC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0506CD-6850-4E98-AB3F-C78D1FA0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0C1BA9-BA01-4FBF-8188-1774BD500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E34327-8163-4441-BB9C-67EAF9675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43F0C0-61BA-4005-9996-E7446D261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E27818-F762-4D36-82E3-64FCE74E6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DCEF19-D9C6-45C3-A3AB-C9FF56DE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3BEB55-CBF8-4F78-A312-ECFB966F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C49A4F-6656-452C-BDA3-217DF0EFA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67CB0F-7B07-4C13-8B14-BB942BC64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68AC96-DCFB-44C5-BB43-25539AF8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EC2A-1281-44A9-AD43-6AAF888C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8CF5BD-59ED-4F94-A72D-3F5B9ACF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929B9A-44AB-4726-9D17-2A2BADB1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FB1703-10E0-4DBC-A825-FD2295CE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724E50-6B5A-4A15-B4AB-1F35F075C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1800BB-1D75-4D35-9213-42C4998C2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396612-90FC-4401-9FC4-7DD0F944A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5914E3-7D65-4C29-A4F2-1E313A697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AA9A41-704B-4EC4-BAB4-2AC11AE5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40F564-86AF-4ABE-B9AB-A02BFD8A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9A1551-E9F9-457C-9EBB-39F754176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80493-3BBB-4A2B-9834-A0D08E9F2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65081-1213-466B-A0EB-9373A4F3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DC0E2-3BC2-4A64-9441-FAFAC93E1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5437FE-2290-4F7E-9440-6EA40FA75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3F9CB-B274-4E4E-A686-FBC8C08A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F55D-91C7-43F0-B0AD-3DB85B5E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1194E-DC03-4163-ADDF-8D16E8A08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1FC6FA-2A23-4DE0-920A-90029739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522E9F-4290-4F0A-8316-AC5314FE9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D52737-CDBD-4B3D-B7E8-A8F0C8BF5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F5F54-0C53-4AC6-AE8B-4D3C6D33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273E1-CD10-4339-ADB0-A23C4B22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A8419-C1F1-4399-9AF6-C901173BE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006E1-8BE4-4AEF-96A6-19E21B0FC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03CAD6-B36A-4144-81A5-0F38D07B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CE0001-DDBE-461F-83ED-AF90AB322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129D-FE12-4812-89BA-9A586006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6385C7-3B79-46AC-A2E8-484A93F6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128E0-22D9-4CE6-9A79-8DA87D9E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56596-8FC8-4211-A05B-C0A2EC02C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E4021D-8C95-4CF5-834E-ED7F52DB2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88379-46CC-4E2F-8C65-1D8F31EB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7B54E8-E23B-4A98-89AD-B753AD7AE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A8CC8-10E8-4A62-A0A1-D6F524A91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7E6E0-F907-4BB9-AFC9-E6153E5EA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CFC5B7-1373-4E70-92E5-BF98FB20D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D2769-84AE-441E-BEC4-6FBB9FBEE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E30-57CE-411F-9FA7-82606FA1C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0B1B6-2D86-4B5F-9A95-C46EBE34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F0CF7-BCF3-414F-BB5D-0D448A6B2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7E3C5-E1DF-46D0-AC18-4C37E64B6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5787F-3304-4CBA-B87A-0C6FD0A2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8FF56-8DCE-42E4-984C-776666E0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4927B-9E03-40F6-8520-CD82835A7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2562B-4D19-4358-8012-F094E073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6CC0D0-FA3A-481E-A4B1-055F18C98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0D7712-BC95-49ED-BEA3-7DCE78B4B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C256D-6705-426D-8B03-448BAD3F9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8908-3DA5-4918-981D-39EE7A363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B1B36-9430-4F30-88A7-691637D19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3EE36-A102-45FD-87F4-9C3F9DE2F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3BC28E-0B63-42FC-9EDC-7A0CCC408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F9B54F-222C-421B-BC5F-B2495CD0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E663EB-2D92-47D0-A2AD-A99088ED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FB097-9A3F-4884-B565-DFAF1565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798984-EDC9-4583-8028-E326175BE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B6FCE-411C-4708-A995-81754A23F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6DC79-25B2-48C2-B063-B65AA4072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CE1BA-9EAD-4F13-8612-514AE2393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EC8E5-EB82-4BA7-AF40-2EF2FA6C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52226-A03C-4E67-A92A-19243F6D3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65CDAE-EB91-4EB1-801E-82E589C7A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CD8B2-B175-431D-9E8E-6CF7588FC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ABCBF-24F1-4CB3-A5F9-97DCDA6A4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C5BBBA-B4C5-4394-95F4-08E562F1A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D55F5-A553-4258-8AE1-A21CA0A3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1C641C-CA6A-4A18-A27B-7E2F1CF2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ECB0D6-BE81-46FF-838F-357A9817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C4613-43D2-44D0-B298-93320016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09F2B-1DE6-4C81-83A8-730CEE02E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9AECB-79A4-4512-A0B5-5C1739FDC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C7C25-4FEC-400A-8351-D600FE3D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CAD30-D788-49E3-A150-0DA6B3015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18735-F84D-437B-9B03-882164B69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54C46-B0BF-4B5C-8B90-7EACB2BBD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892CD-B323-4400-A622-F827466EC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54BEC-5028-4EDA-A80C-33E21B368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A1E1FD-9B20-41CA-9E7C-16622A9D4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50F11E-0A40-4AD0-A5D4-4C32E2933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40F37C-D006-43D9-95DC-EFAAE7F1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4E3B49-1952-4F38-A2CD-241619C7C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A4CD7-65B5-47E7-A6C5-DDD47396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DC30C-92F9-4F02-9D26-387A34408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A0B99-F3C9-47AE-9CA6-3ECCE3D8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C69488-9449-48FB-8755-1AED0B4A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3615C-15E8-4E30-94D9-F35DAD95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8E408E-3C73-441F-9245-6C219653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7FBD7E-5FB6-4017-84A3-B8A9E8C62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9DF658-DD29-45CE-A786-FF0C50660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E4186-3865-4E78-A5F0-1C6D5D24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2E87C-A7A3-44E0-B27F-F84545BC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D32CE3-DC80-41E5-993A-9517FCF7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D1FB-A7A4-48B7-B6EF-739C5D0CBC51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15167-7614-4628-AE10-D4ACC5412542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DABF-DA9C-485F-8726-124B7FE7EB0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6F2B-FEB7-43E7-BEBA-54A5673A4F4B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1C81-1D73-4A8A-BDEA-075ED3C4CB7D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1F4D4-ADCC-41EE-8FE9-3F7C8BAF5B4F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F9A1-6518-4CB2-9CD7-469E3DFFCEF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35B7-B5AE-4411-AF19-DEB2F7B06548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C525-2E30-4433-950C-562384D21EBE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854EC-9316-4CCA-8CC0-21CF63B632F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EF40B-F6D4-49BB-8DDB-F9D9B5E09B47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B5797-7C88-43EE-BA6D-637717F735A8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A9B66-6732-40A2-B640-A6BE47BF2259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3133-0581-429F-8409-7CC81D97001E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EF83E-82CC-424C-ACE5-A05CDD349831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9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0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0DD80-F5F5-4308-88C8-3ABB0CF638D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32949-7511-4065-84EC-19FA217D0B7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4D30-74A8-4E1C-8C0F-082221B6A4EC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C079-ACDF-418B-B3AD-DE268587217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DocL7AfIRo" TargetMode="External"/><Relationship Id="rId2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R4S1BqdFG4&amp;feature=related" TargetMode="External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9984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alking With Students About Mindset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59984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y Job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’m here to teach you, not to judge you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help you think, learn and continue to grow smarter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have high expectations and will not settle for anything less than your best, but I will show you how to reach those expectation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learn with you as I am always wanting to grow smarter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f you are behind (or fall behind), I will teach you how to catch up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803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Your Job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e open to learning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ut in effort to develop your skills to grow smarter EACH day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Read difficult books and work to understand what you read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rite everyday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Help me help you - If you don’t give anything, you can’t expect anything. Success does not come to you, you must come to it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e accountable and responsible for your learning - That means more than just showing up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Homework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efore you fall asleep, and again when you wake up, say to yourself…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Smarter is not something you are. It is something that you get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7626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Mind Sets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1447560" y="2895120"/>
            <a:ext cx="6762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f you fail a test, what are some things your inner voice might say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If an inner voice says, “I’m stupid…”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n we need to use cognitive thinking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e look at the facts and evidence more closely to draw an accurate conclusion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hat questions might we ask in order to get to the truth of the matter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14400" y="23317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hat other reasons might there be (other than stupidity) for failing a test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fter you come to the conclusion that it isn’t stupidity…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sk yourself these questions…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at can I learn from this 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w can I improve so I do better next tim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Why is this man laughing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bf24d"/>
                </a:solidFill>
                <a:uFillTx/>
                <a:latin typeface="Trebuchet MS"/>
                <a:hlinkClick r:id="rId1"/>
              </a:rPr>
              <a:t>http://www.youtube.com/watch?v=sDocL7AfIRo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Why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s no one telling these babies that they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re stupid because they don’t know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w to talk using real word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y just haven’t learned yet!!!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How does the brain work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bf24d"/>
                </a:solidFill>
                <a:uFillTx/>
                <a:latin typeface="Trebuchet MS"/>
                <a:hlinkClick r:id="rId1"/>
              </a:rPr>
              <a:t>http://www.youtube.com/watch?v=FR4S1BqdFG4&amp;feature=related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837720" y="304560"/>
            <a:ext cx="7696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ne day, in a class that is really important to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ou, and that you like a lot, the teach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turns an important paper worth a lot of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oints. You got a ‘D’. You are very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isappointed. That evening, on your way bac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ome, you find a parking ticket on your car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rustrated, you call your best friend to share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our experience but are sort of brushed off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What would you think? What would you feel? What would you do?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Write me a paragraph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Brain Growth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ake Synapses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sk yourself each night…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did I learn today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mistake did I make today that taught me something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y did I try hard at today?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was the result?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How can I get better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ind Sets – What They </a:t>
            </a:r>
            <a:r>
              <a:rPr b="1" lang="en-US" sz="3800" spc="-1" strike="noStrike">
                <a:solidFill>
                  <a:srgbClr val="ffff00"/>
                </a:solidFill>
                <a:latin typeface="Trebuchet MS"/>
              </a:rPr>
              <a:t>Think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Fixed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ife isn’t fair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obody likes me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ings never work out for me.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72392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Growth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need to try harder in class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need to be more careful where I park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wonder if my friend is having a bad day, too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ind Sets – What They </a:t>
            </a:r>
            <a:r>
              <a:rPr b="1" lang="en-US" sz="3800" spc="-1" strike="noStrike">
                <a:solidFill>
                  <a:srgbClr val="ffff00"/>
                </a:solidFill>
                <a:latin typeface="Trebuchet MS"/>
              </a:rPr>
              <a:t>Do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855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Fixed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o noth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ay in bed all da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at chocolate ice cream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ell at someon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Growth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udy a different way and ask for help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ay the tick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ork things out with my friend the next time we spea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Think about it 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as there death and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estruction, or just a bad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grade, a ticket and a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isappointing phone call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990720" y="6854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Becoming is better than being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Potential means developing your skills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ith effort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ver time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You aren’t a failure until you start to blame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ffort is the </a:t>
            </a: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KEY</a:t>
            </a: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 to success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-273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eople are all born with a love of learning. (think about babies), but a fixed mindset can undo it.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73960" indent="-273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hallenge yourself to do something you have never done before - something difficult that you never though you could do. Picture it and think about how you will feel when you have accomplished it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Picture Thomas Edison inventing the light bulb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ere is he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at is he doing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scribe what you imagine as vividly as you can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dison was not a loner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e had 30 assistants, including well trained scientists, helping him in a state-of the-art laboratory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t did not happen suddenly - It happened over time. It took several attempts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dison never stopped learning and being curious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0T22:44:56Z</dcterms:created>
  <dc:creator>default</dc:creator>
  <dc:description/>
  <dc:language>en-US</dc:language>
  <cp:lastModifiedBy>Joyce Fouts</cp:lastModifiedBy>
  <dcterms:modified xsi:type="dcterms:W3CDTF">2013-06-20T23:20:59Z</dcterms:modified>
  <cp:revision>33</cp:revision>
  <dc:subject/>
  <dc:title>Talking With Students About Mindsets</dc:title>
</cp:coreProperties>
</file>