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3644-5F25-4FFF-89CF-7C2DCE5AB0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31A3-6C33-42BC-89D0-8A3ECE08D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D87D-6857-4150-976E-77FB2E97F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4E1-9184-4773-A353-5A30A740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6B6-3913-479F-8786-958C8D64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72AE7-C628-40AD-AFA5-05EBD8A0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A045E-D38F-4207-8F86-ECC00726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B569F-669E-4A31-BDE5-4D77F16D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354AB-38EE-4CE8-86DF-F5D0EE8A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EFFD3-4AFE-454E-9E56-5C08E315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C930D-ECB3-4C26-B541-11FD228C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0A0EA-C099-453F-A6B0-89EFE398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7359D-C66F-4FE1-985D-1D68D0B5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F2B06-B16A-4815-976E-06490BFF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02F72-4A42-4027-833E-4BCB92B1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EEF-FA31-4BED-A71D-07882404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B6AF4-060E-4EA7-94CB-77760712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C4532-BDB9-49D0-A204-5455E444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AB3D0-6283-4107-8C39-F031EFD0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3AB6B-2A5B-4511-8964-5C30C006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2D0A8-ADEA-4EDF-A175-56F6989E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8A6C2-B66C-4E1D-8E9F-35BADC41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EA20B-5DCD-41B5-8454-D8D5EB8A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318C8-5AF4-4BC2-A04D-A2780213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9D7FB-C852-4E45-B713-383B0876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97E3B-01A7-4723-AEE0-F20C44E2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ABA-9336-43F0-A5D1-D7D9B232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9C79F-671A-48F7-8DFE-33B94741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1E64F-DF2D-49F6-A4E7-0DE92845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C9F5B-245B-4B5C-B708-DB0FF12F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C803C-4824-4CD8-833F-88DF755D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A9703-B003-4C58-BB26-5316932D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232EC-4C01-4C33-AA33-59A4998C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CAABE-A3C0-4FC3-8BCA-09DD3402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1B59D-F37A-4826-AA4B-B2DFFD95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288F3-A8A9-4C3A-ABD7-0A68E3D3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65186-FBDA-4693-A4ED-D64F1D58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F7F22-918D-434C-934D-A9BAB508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1559B-FC02-4353-941A-2C75C55F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F731E-E632-4C24-8E20-E288BCA1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E9A49-D150-48D7-8695-32E47D4B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49BC8-E46C-4566-9D08-7E94C281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A7F77-60E7-4252-8AC7-4F91C37D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BA1C2-5231-410F-8664-7E620DA7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36A90-DAA2-47CC-B50C-CB7B9707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E9563-9F64-4B26-99E1-A11E1149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065E0-7A13-45F5-9149-EE25C648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61805-206B-4EAF-BC50-7F5CB331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46B1A-9E9D-4F13-8A1C-2E7CE4EA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688AD-36E6-4FB1-93D3-EF3999B6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95941-6435-451B-94CB-AD9DDC1F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C4820-18FC-441D-9F3F-ADB8FD3D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C2490-8D82-4AF5-9306-F900DA04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551B1-AAF9-4F19-8CF3-A14E1E6A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5915E-D490-4B54-BBB1-2BD72114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DC308-A06B-41C5-A0E0-8338EF94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E7463-5BB4-4FC3-9447-FDE51A2E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81B68-6F1F-450F-A51A-906236B7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E05ED-BE0B-40FD-A5D4-7E4E9BE8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5F557-A3C5-4E29-8F6C-B4589F4D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D787E-8A53-4246-90BF-6FEE6A80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95481-A4CC-47DD-B417-0F25C10C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70335-F4FA-4226-A715-1755AF23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FED1A-FF13-4937-A5BC-80EE5496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E6D38-EE61-4E6A-A20D-A5EDAB4E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4BEE8-B50F-41E8-97D9-1BC4A3B8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B2012-E0B2-4100-83C1-896BB3E1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3E4C5D-C53B-4783-B718-6B872AC0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568DB5-B346-44F3-8883-BFA89117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E51B7-B000-4F48-AD6F-1022B434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F4A27-05F4-46E1-B45B-A541948E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EF1CF3-C0F7-4526-915D-7A50675C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69A89-716B-4F4E-AEA2-B652485D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CE8999-909B-4154-A6C2-C4F1A622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9B738-8288-4143-8636-216412D2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FC76D-246E-4EF3-9BF0-9D40B6AE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C0EEC-2CE1-468C-8ADB-31FEEE84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8D889-7488-41DE-897F-D85599F5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80E913-565F-4386-9143-384C7D68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3B97C-ACFF-4DD1-BA82-FAF872C3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6EDC6D-6E03-43C9-AAD0-84BFB783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BB83C-614E-4CE1-AD27-5B560F44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79C1DE-22C5-4967-8EAD-F0D0B8BE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B0CD9A-9C90-496D-B4D3-6D9099EC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530FB8-4C9A-44A4-9C72-F00AE08B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F06F0A-4D33-4109-B85B-B4C93D23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6605A4-D120-4C43-B513-0286B6D9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DC16E3-0A1D-406E-8E49-B7C2884F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AD691-E44D-4AED-88E1-D015E945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3158D-9C6B-47D3-A8CD-B56504E7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051091-2C28-4976-B3DC-87DDC7BB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2F630-3C3D-4DC0-9B4F-567F354D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568A2-B709-48DB-8705-89435B7A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A6C95E-D2E1-4C75-AA12-C46F53B8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96AA5-92F6-4510-8766-D0C3DF71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B304AB-8876-450C-874B-2240E01E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FCA5E4-4CDA-49FF-9A71-090B0625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B92501-83BC-4901-B3CC-55A7CBE9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F1D5A6-07BC-4C66-9331-78B76020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E0B36E-99CC-4E85-AA3C-AD7B941A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BFA42C-53C0-4F78-95AB-074D5281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F6C79-C1A1-401C-9E9F-FC3A7C9C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58280-500D-4C01-A607-5428F51F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FE05C-7C25-4ED7-BDBF-B87FE132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17FB5D-6DE6-427B-9F06-F3DCB09D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6BEE95-3022-4F6C-A8DF-B07BC56A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4461F5-AE97-41D0-A737-02CEDBFB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5A0971-C65E-4D42-8710-8523EC38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0EBFD0-8CC9-48DC-B792-031FE37C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AEB835-BF28-4E31-87A6-595BAED2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E70D9D-52C3-4012-A72B-DB26F138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7F1066-7DDF-4BF4-A695-2F5390C4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EC97C-BA86-4D01-8CDE-067BB04E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13C2FD-E384-4FB6-8F88-6B3D67F3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305-F331-4A88-B52E-0FA71F21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17893-878E-4C8D-AD96-7D18DE2C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3309F-C812-4E77-AAEC-127917E5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27711E-C756-4573-8C48-90A46584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812EEF-099E-4919-A353-B0F8D6E9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9E3FEB-B25F-4B4F-AA5F-708ECAB4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C0F4F0-DF8B-4E06-A34D-83CD44DC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901EC-8AD6-471E-923B-06B1A375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59ED2-5860-4CBA-B064-78A74A2B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578C9-68B2-497D-915E-D69E15F9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5F501-C3F2-4586-B65A-6ED6E9FA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D8132-E1BD-465A-99DF-617E5FF3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612BE-4B71-4703-BDC0-3C46B424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D3AF8-B5AA-4B97-ACC8-B33206C0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AAFB1-2D24-4240-9ECD-1C115D80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94DD-ABEB-4A28-A315-8B859463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F5D-363C-404B-AB37-EF21CFCE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31C28-92C7-42B8-8107-9894DC59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AD0CF-85A4-4EC7-A41E-B7AE61A9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846B1-BD86-4A20-B3AE-7BAB8424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14B3F-FC41-4102-955B-93E95793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68993-E39F-4A72-AD13-7A0BB305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9543-5A69-45C2-A1AA-D66DF32D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E9E4D-416A-432F-986B-35CABF19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CB663-3DBC-4700-9968-36A59201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B5DB7-D7EB-4AE8-8044-BB2CC29E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320ED-40D9-4B68-AB70-02E7FDF8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5EE-B0C2-434D-885C-F70859CD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66062-2CE7-412F-860C-F7E30961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8BE95-11D3-4F8E-89A2-23EB15F7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EA4CF-FDFA-46C3-8AB5-8004C0D0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63CDB-72CB-484C-95BB-7CBA32C9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B3320-E7B4-4CD0-80C2-B069B2D7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C185E-4A03-4539-893F-16380752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B8463-C55B-46A4-9DB7-0CE95675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73819-1A1A-439E-B5EC-EBA7525B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BE165-6BD3-48D6-AC7C-E4F75C44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5A43B-DC5B-4E79-9043-EDD05A1D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2DF-D95E-47EC-9809-AE18724F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D4A28-A9A7-41C6-8CBC-18C6AC19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8E45B-5CBE-49F8-BF04-03DAB9AF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6016C-634F-4551-8753-8A178BE8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5DB1A-31C0-40A1-B099-3F57FD47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DFD44-1DFA-4705-9D8F-6B6BAA15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9104D-F08B-40CF-A62E-E3EF8B17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4A69F-114F-4EAE-BCD5-2CFFB3E7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9AB58-80A2-4350-8B09-6CD5DBA0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02045-DB29-4898-90BC-55900A15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9D2CD-5D1F-448F-A640-FA539FFE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E2F-AC23-4C56-BA67-8B987A0F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53407-6B45-48B8-85DA-4465998E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31955-59B0-4A84-9176-A76B9A7A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15803-F467-460F-8A7B-3A6FB9CD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1C36D-E59C-4C37-9AB8-1C34E571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E8FA1-EC6E-4616-8F34-A6F80FB6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BFC53-C922-461F-AC22-E0F1E26B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254ED-2112-488C-A9DF-162E9B7C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A1C37-B2A1-4E41-8AF3-ACB04908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D22A9-6BA3-49D3-8B2E-9D1A6DC7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CC55A-B19D-4642-A83B-ED03E137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3FF-F57B-42F4-B76D-C9DF16F9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67454-7E32-4CA4-BDF0-66C2A7FE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52633-6FA3-47FA-AEF7-39CF98E8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912A5-A9E2-4960-91F8-8FADCE19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9B693-40C7-4CD9-AB3E-BEAD2FE0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BCFA9-1D55-45A2-8968-245A052B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47F5A-E11D-4FED-8E7F-6E079824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F3803-BAAE-4BFD-8ACE-8EFCDA9B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D1AE1-FFA3-40AE-8857-034D9992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EBF6E-39FE-4CE5-8824-A600ECD5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9C466-998D-436B-93CF-F1B421D7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064-17DE-45C8-9C46-A057E680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CE57C-FE26-4DD3-88C5-8EC0D096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763B2-6978-42AD-B3D0-696CDC04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F18B1-BA82-456D-993C-1F78F2F7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1AB4B-0AFF-4943-9D3D-F8788FDC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FE99D-0E80-4FBB-9496-3EC379BC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A268D-4C0A-4774-9E4E-C133FB92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C0F4F-1987-4C4A-9707-CFBFED9E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0E49C-929F-42E7-A907-03326C67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EB4A4-6B89-4CBE-B2B7-E859E1BF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2C2DC-50F8-4AF6-8DE2-07BD9D9A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1AF-4F93-4DB8-9C78-DE4E66A5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BFF21-05DC-40B0-9D7E-F8C3005E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C0BC1-12DD-4300-B6C7-9C18B4E4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090B8-F55D-44DD-99B8-6BC9E091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3B640-9F18-4869-89B1-968B7047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E7500-EE05-4908-AAE0-A6566BFE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B36C4-AB8A-4CC5-9818-029E7C2F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3BC66-A54C-4B13-8805-E59457BD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7B576-58B9-4DCA-A792-B0AB5353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F62CA-1827-41A0-8A9D-9498633C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164E2-372B-41DD-84FD-89A9B640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A170-F6EE-45FD-808D-0E769F6AE32C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E2B7-09F2-4FFA-BF6C-B0A19EBB8FF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096E-EE48-4E3A-BEA1-3910A34BE7C2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02B1-1488-4C97-9BF4-614D41F04DC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3D36-ECA9-4E20-84D7-6204F020A0F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2F72-E285-4954-9058-3B8F08BDAA5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BF17-DE17-4642-BE62-96F137B988E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2265-B539-4EE8-BC91-8DA72ACCA52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2D10-0702-4A47-A04C-1ED8FDE57A4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6A21-A34B-4FCB-B4CD-333080EE1C0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5273-2CC3-4300-A6E6-1066245D2738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B072-00D3-4B48-A425-04BDDB1232D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A978-57FE-40B2-9987-8861FD1F14F5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DA38-06CC-4AD4-A0A6-63F2BB6C90F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6916-E182-4839-AEF1-051ADCBAE16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CF01-44A7-4CC4-BC57-FB33C6E1ACD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C8E2-23B8-479A-9196-BCA571EBFAC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C213-92CD-41F3-8CDB-0DB81362855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4728-D878-45AA-8DCF-C74F2CA2E6F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DocL7AfIRo" TargetMode="External"/><Relationship Id="rId2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R4S1BqdFG4&amp;feature=related" TargetMode="External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alking With Students About Mindset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y Job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’m here to teach you, not to judge you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help you think, learn and continue to grow smart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have high expectations and will not settle for anything less than your best, but I will show you how to reach those expectation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learn with you as I am always wanting to grow smart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f you are behind (or fall behind), I will teach you how to catch up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803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Your Job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 open to learning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ut in effort to develop your skills to grow smarter EACH day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Read difficult books and work to understand what you read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rite everyday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Help me help you - If you don’t give anything, you can’t expect anything. Success does not come to you, you must come to it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 accountable and responsible for your learning - That means more than just showing up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mework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efore you fall asleep, and again when you wake up, say to yourself…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Smarter is not something you are. It is something that you ge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7626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Mind Sets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762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f you fail a test, what are some things your inner voice might say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If an inner voice says, “I’m stupid…”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n we need to use cognitive thinking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e look at the facts and evidence more closely to draw an accurate conclusion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questions might we ask in order to get to the truth of the matter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4400" y="23317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other reasons might there be (other than stupidity) for failing a test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fter you come to the conclusion that it isn’t stupidity…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k yourself these questions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 can I learn from this 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can I improve so I do better next tim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 is this man laughing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http://www.youtube.com/watch?v=sDocL7AfIRo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s no one telling these babies that the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re stupid because they don’t know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to talk using real word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y just haven’t learned yet!!!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w does the brain work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http://www.youtube.com/watch?v=FR4S1BqdFG4&amp;feature=related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7696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ne day, in a class that is really important to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, and that you like a lot, the teach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turns an important paper worth a lot of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oints. You got a ‘D’. You are very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isappointed. That evening, on your way bac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ome, you find a parking ticket on your car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rustrated, you call your best friend to share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r experience but are sort of brushed off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hat would you think? What would you feel? What would you do?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rite me a paragraph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Brain Growth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ke Synapses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k yourself each night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did I learn today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mistake did I make today that taught me something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y did I try hard at today?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was the result?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How can I get better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d Sets – What They </a:t>
            </a:r>
            <a:r>
              <a:rPr b="1" lang="en-US" sz="3800" spc="-1" strike="noStrike">
                <a:solidFill>
                  <a:srgbClr val="ffff00"/>
                </a:solidFill>
                <a:latin typeface="Trebuchet MS"/>
              </a:rPr>
              <a:t>Think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Fixed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ife isn’t fai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body likes me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ings never work out for me.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rowth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need to try harder in class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need to be more careful where I park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wonder if my friend is having a bad day, too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d Sets – What They </a:t>
            </a:r>
            <a:r>
              <a:rPr b="1" lang="en-US" sz="3800" spc="-1" strike="noStrike">
                <a:solidFill>
                  <a:srgbClr val="ffff00"/>
                </a:solidFill>
                <a:latin typeface="Trebuchet MS"/>
              </a:rPr>
              <a:t>Do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55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Fixed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o noth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ay in bed all da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at chocolate ice cream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ell at someon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rowth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udy a different way and ask for help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ay the tick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ork things out with my friend the next time we spea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Think about it 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as there death and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estruction, or just a bad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rade, a ticket and a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isappointing phone call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990720" y="6854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Becoming is better than being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Potential means developing your skills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ith effort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ver time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You aren’t a failure until you start to blame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ffort is the </a:t>
            </a: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KEY</a:t>
            </a: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 to success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eople are all born with a love of learning. (think about babies), but a fixed mindset can undo it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hallenge yourself to do something you have never done before - something difficult that you never though you could do. Picture it and think about how you will feel when you have accomplished it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Picture Thomas Edison inventing the light bulb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ere is he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at is he doing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scribe what you imagine as vividly as you can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dison was not a loner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e had 30 assistants, including well trained scientists, helping him in a state-of the-art laboratory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t did not happen suddenly - It happened over time. It took several attempt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son never stopped learning and being curiou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22:44:56Z</dcterms:created>
  <dc:creator>default</dc:creator>
  <dc:description/>
  <dc:language>en-US</dc:language>
  <cp:lastModifiedBy>Joyce Fouts</cp:lastModifiedBy>
  <dcterms:modified xsi:type="dcterms:W3CDTF">2013-06-20T23:20:59Z</dcterms:modified>
  <cp:revision>33</cp:revision>
  <dc:subject/>
  <dc:title>Talking With Students About Mindsets</dc:title>
</cp:coreProperties>
</file>