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D4933-9A87-44F1-B51E-AD141F7A56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441EC-DCCD-4E53-B9B6-F07D3264CE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72634-2E1A-4947-A2B0-4AB5550F72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9337-3AF1-4A4D-B528-2BCB478C2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DD9A-CBFB-4A9D-A32C-433B4CDFD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0EFEAF-298C-40C1-BC35-043BB2B87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7893E6-8CE9-4117-9DD7-9C39CE4ED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422199-8B02-4402-B667-A7CA9F548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1ECE59-A90F-4664-B5F3-A990D2BD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FBE74C-42EC-4A25-A9E8-F4A7938C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85C6A0-0F27-4E22-9A6A-40989A7F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6711BF-F2E4-402E-8BC1-14B8AE830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1CC59A-AE57-405A-9E6D-2F5C30682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D847CC-4E38-463B-A5A4-8AFA2B4C0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513F61-7DD4-46C3-979C-E70BA7253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CD10-8BFE-4A34-9EA6-0A6E7E9F9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DF26F6-8C1F-4C6D-AECC-BC484AB28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A3FB7C-03A6-4193-9362-A02887F9A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3D08FE-A113-4C58-B6E3-4F36FEDE8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196A16-9B12-4B90-82B7-698A05901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EA3539-11CA-4D90-B409-1361F246A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3D7B58-9938-4B07-83F5-8C49631FD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FCC844-94DD-4F94-9EA2-6A5515F9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8FCC4B-C437-4EB7-9FBC-12C41C5BC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DC45F2-8A23-4270-A8C2-EBD45EDE5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CD4852-72CD-4E64-8C9A-E7CBB3DD5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668B-E648-4561-BB5E-D6F816573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2B0436-7BB6-4F25-B9B4-9E89A4285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182E4B-99F0-462C-9810-9A2D02BC9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2AE210-F2AF-4466-B167-131396705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EB94C5-C314-419C-B5CD-98F55C2FF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61FD9D-FE1A-456F-B396-117A56BD5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2246FA-B622-46F6-AE7B-D6A3DC36A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33E65F-0F59-4129-A947-CA99E755A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79831B-DE10-4A63-9429-965D98A3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B73A3E-3E94-434D-88AC-C067DE669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5BC8B8-857E-43DA-A490-E88A40D3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045120-3C5C-4C30-9E33-7DCFB557A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1F1F1B-0A57-466B-A093-0D5AB5B39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F7318A-EF69-4D50-A449-7983F1B2D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01275B-4527-46FC-B679-85DC2B427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D75278-5CB6-4EDF-B749-8094BDB9D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692FA5-E055-4566-AD32-E9C609F0D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1BCE7B-A458-4DA0-A286-43F8E8690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83149E-0BCB-4A92-8CF7-2CFC21C97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E90875-2BC9-4610-91FF-94EDBC896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A3CB00-95E8-4707-8876-766E24EAB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68226B-A1F9-49B6-85F6-5076A9ED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A13F37-CA62-4653-AE2A-7242DBA6F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124C00-C4A6-4844-AA65-4D1C4B2C9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0A384E-F3CF-4D0F-B0C6-06FC2FF6E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0F60BC-6B05-4C89-89DA-951B4F733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E00460-7592-4AE5-A3C4-4C5FD9EC3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721DDF-326E-441B-9DB2-8A5626624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077FDD-D135-4C81-81C0-B5686005F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709306-0E0B-4205-B8BE-4424AB4B4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D544F7-9E91-43FC-AA73-5464F5BF3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479BBA-55D8-459C-AA50-3B1699CB3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AA2DC9-1890-4B00-9AE4-8CC80F52D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D5774C-CD1C-4A02-98E7-2F8A0A3C0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D65ACA-B574-42F5-8523-1C8AF82C7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612247-9ABA-479F-8DE8-5B0DB7D1B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2976E7-739D-44EA-ACB8-DA2D53E22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5F0304-FE92-4B72-8489-B26BFF76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8F0828-15E7-4F05-AA77-2E3A63617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348378-F763-4478-8C7C-502222255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7C77B8-4299-4A73-AB85-4B4E3AC58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656A8D-22ED-4175-9802-A86A45F30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793713-E0DE-46FA-A83A-B4ABDCE76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1B01FC-CFA0-4A21-882E-79A508061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25FC85-8ACE-4ED6-85DB-CD13E1A2E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9362B4-65AB-45E1-954E-32C272F89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27886F-5DFD-424F-AFD0-47CEC10E8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10E225-7952-465C-A0DA-35DF918CB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A22F63-F90A-490D-856C-2733CEFF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A1D153-6969-47DD-9BA3-6376A06E0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E5D123-180C-4132-91F0-A08985B5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BE6BB5-C473-438B-BB59-922005737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A467F7-A54E-473C-89ED-861576FF6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373582-70AE-4273-84CB-ABBAC28C5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354923-05DB-453A-A9AB-BE606699A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12BCC3-3074-49ED-86EE-C78EB2832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4EAF6C-F0A0-4114-B7E2-EEA123E0C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9D710F-D4BA-4258-8DBC-A3E955E38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D7C37E-6299-4B05-B9D1-155BAAF1A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7057FD-0780-4428-9B6C-383F8FB2D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6172C2-EC30-4A91-88FC-7DA3D2213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4536ED-4D69-41E8-8161-7666A741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22D811-E51E-4A91-8488-60E6F60AE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0C8BA3-E32F-4D3C-AB3C-370E6EFB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B3C23E-CA55-4E3A-82F4-D7EF5FF99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34B2CF-9FF2-4D88-BD5E-861ADC9FF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7CE6D9-21D0-4CAE-88FD-68679795E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651138-D7C0-4A8B-9CA6-687E83436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631DF6-1EB1-4CCD-98ED-CFEE36220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23D192-2888-40A8-8873-52FF8E61E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7EC30C-A021-479B-8030-C9ABA6DFD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6890A5-655E-44A1-BDCF-5144BCEE7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AE822E-ED9D-4C37-A630-86676C136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2ED044-0372-47DF-8D01-B196D4EE4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A8FAB0-AEB7-49DE-A21E-5B20F2DC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291897-6B65-4321-8BB4-2596AF2FD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9B532A-4D7E-439D-B77C-D7E480503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BEF7C8-6753-4FB5-B54C-4358114E4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ED02F2-BB23-44A5-AE48-246DFEAAE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232575-4605-4E89-8F34-BEA9C6FDC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9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0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A6A49A-4454-4F0C-BDB9-21E33AE5B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8A9848-FB15-4EE8-AE41-7539DDAFB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AC9A51-169C-4E5D-BDB1-84BE751B5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B9CE9F-EF44-4779-BF80-016DC10A8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848D23-837F-4AC1-B665-506EFA800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349FD2-EE6B-4209-91D4-BE06E6FF3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F00916-09DB-4F3B-8F9E-094D59B13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AE7059-11FE-4BEE-834A-39FFB554B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6F10-B308-4EFE-9868-77AC0041F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F96A11-61D9-4F62-9293-3138220E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8DBCD8-D193-4D4E-9D73-42EF9817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C800F9-8482-46B8-B73C-664B450C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A0FB68-B772-4848-B583-E4280CFE8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EFFB8F-6548-47AC-B778-4189C1348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2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3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FF4BAD-18EF-4CC1-AC54-ECD2BB484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A5059D-2611-4BA2-85C7-3FCCF33C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230D3C-202C-4278-B263-0273DE55B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B8BE47-ECF6-47AC-ACDE-10322D388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520C67-2DE0-4641-A98B-E9D1C548F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5F9BF-66B2-4D11-9F2E-69E7D4B9F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6F8E3-23FD-4215-998F-689DCF1A1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2D20C-9682-49E6-B18E-D3F19A158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9715A-E431-4F90-9014-AA6812E9C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0317A-EBF8-4F49-8BA1-19CD5F865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8B8C-CC0B-4304-A32C-6ABEF1969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80F6B-E452-4FD8-98AE-31AB1D8DE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FFFCA-F40F-4DFF-A59E-5E641B030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AFC10-B581-4B58-BC8A-6C0FC443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F6674-5A5B-4D40-8F9C-9FD96824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76BD6-1744-4B99-B155-0AA0744A3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EB28A-FB3C-44D9-BEA0-70CCF56D0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7A3DB-A5EF-41D3-99BA-6221EA41D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16291-06D1-41CF-8ED0-7F17D2BA6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00597-FA26-40D8-8347-263F876A1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7EA61-8507-45E3-9BD8-661D14AAC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ED01-EEEF-48CC-9652-EB61DBC6B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F5D7C-6EB8-4421-80EC-64BFA5E35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E362B-BAC4-4132-AA8F-1EF239E4E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5617A-9629-4A0B-BF16-10585E780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0FDDA-39DA-4C5B-BE77-CB63078B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BBA1E-CC56-4C7A-869B-5E0DF150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84A11-BFF2-444F-B667-5B4DFBD0D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F9A8F-C768-4F51-B374-D6A458A13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9FA19-888F-4055-9CC1-464CE62A0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741DC-F7B6-4136-8E7D-CD0ED45C6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D6540D-84A2-4FBD-960A-D4A7E1625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920C-625D-483F-96E5-08085EF53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A73A0-A229-4552-9A5C-A5AF0B67E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62D33-1C7C-412B-A2F3-02536F6D9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E977AA-906D-4EE8-8869-0E50FF509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F3DAD4-4C74-487A-9A3F-702B97E89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AA06E1-E700-4D47-BE04-DA07D3DED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A0FF39-28EB-461D-BA03-A2066807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135A3-7074-4E32-95A8-6B27FC319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1321AC-B72E-4BBD-A461-DE5D0769B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360ACE-6772-4BAC-87A0-60A45213D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3A8C53-5BF9-4D33-A6F6-6A1065852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F87D-4CA0-4423-BC01-7D98C4D1B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903E8C-6993-42F9-93B7-852668C50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EEBAC0-3D32-4FC6-BF98-0095EE491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C8A1C6-1B29-4239-BD63-7D5317BD5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985F4-A783-40CF-B8C8-340CEC44F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CC87B3-1670-407B-84EA-18696B2E7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28D45C-55A5-46C1-9CE6-9AB3D0817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B5F815-F82F-4542-8FBC-445076B89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90DEB0-9DC1-4E3A-84C5-1211D6244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7C20D1-24B2-47C3-9BB2-605ED343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1B57FE-AD57-4CF2-949E-22859A2BD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1039-1F3D-49E0-AE4C-928BFA25C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052D8B-2500-4670-B94C-B021369B0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C75247-9224-4FFF-9280-8FA2EC562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8A76D6-1A76-43F1-882D-5F2A664FD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79455D-2B60-40B7-AB2D-8C48057D1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69AF2E-5423-4890-B937-7CAA6EA4A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4C3C4C-32E8-49C2-B7C8-7AE8D3960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3B40B6-0875-414D-96F1-BE372CBF6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D490A0-60F4-407D-A569-BF595EE1D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00C262-191B-477E-B29A-C1E2806A6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4DB19B-CFFE-4F81-BBD7-A260259E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AD45-F6A6-4A0F-8141-A2AA676CC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034ACA-A398-4851-9AFE-6ABD6B01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C73453-8BFA-458C-845D-0F525D63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A68EB5-F8F5-4483-B405-6B3B659F9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BCEB45-F2F6-4FE3-A857-56D8E9D94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95F344-DC87-4050-A398-E53230F03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133298-6AA6-48D2-AC28-70F1AABDB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567434-4387-475A-96DD-9FA0CA926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180F8D-6A34-4C6D-A835-BD707A93F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41A72B-326D-481B-9D9F-1F812D750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50F72B-BD55-4EB5-994B-C4AF4D130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9587-08BF-4EDF-9341-A3507B45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F5328C-0BD7-4C16-A2F6-61BC6B608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3AA22E-036F-42A1-AF60-F982A583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B69150-9655-4BE3-8806-335153D5F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7285E2-5CAA-407B-A55A-05DA578E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10551C-52D8-48D9-A734-1284A10E9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F2D2F7-49CE-493C-B665-F4123AFE7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19D1EC-0224-40D1-9C74-02382D858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23F84F-C5EF-4D88-86A0-D503C12AB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2E5AED-5FD5-47A4-B6A5-ECE6BA02E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53F8EB-04B9-407E-B1E6-F9771DDD5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C0734-7963-4C4F-9FC2-AD54CE2E8C77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28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9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30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9B281-EB5A-4037-93F7-737C9E7C6471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31966-4D41-4F48-BFCB-3266781F7773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Picture 8" descr="Overlay-ContentCaption.png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4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5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6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E3BB5-A968-46A3-8AC8-1CE9C65A3D84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8" descr="Overlay-PictureCaption.png"/>
          <p:cNvPicPr/>
          <p:nvPr/>
        </p:nvPicPr>
        <p:blipFill>
          <a:blip r:embed="rId2"/>
          <a:stretch/>
        </p:blipFill>
        <p:spPr>
          <a:xfrm>
            <a:off x="449280" y="187200"/>
            <a:ext cx="8535960" cy="648360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7"/>
          </p:nvPr>
        </p:nvSpPr>
        <p:spPr>
          <a:xfrm>
            <a:off x="388584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8"/>
          </p:nvPr>
        </p:nvSpPr>
        <p:spPr>
          <a:xfrm>
            <a:off x="5866920" y="6288120"/>
            <a:ext cx="2676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9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D3BEA-F70B-4D58-90F2-75FF9C5A8DF3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8" descr="Overlay-PictureCaption-Extras.png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40"/>
          </p:nvPr>
        </p:nvSpPr>
        <p:spPr>
          <a:xfrm>
            <a:off x="380880" y="6288120"/>
            <a:ext cx="1865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41"/>
          </p:nvPr>
        </p:nvSpPr>
        <p:spPr>
          <a:xfrm>
            <a:off x="3325320" y="6288120"/>
            <a:ext cx="5218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42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5F915-3100-4BE2-AC19-5230917FBF1F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Picture 8" descr="Overlay-PictureCaption-Extras.png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380880" y="6288120"/>
            <a:ext cx="1865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325320" y="6288120"/>
            <a:ext cx="5218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C9D73-8D57-43BA-8E75-5B0DDF364EF1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 type="dt" idx="46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 type="ftr" idx="47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 type="sldNum" idx="48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5254A-E202-456C-848A-1C3A2483AC0E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2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 type="dt" idx="49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 type="ftr" idx="50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 type="sldNum" idx="51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78E32-448A-4E7C-85B7-D54AE0D0E89C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Overlay-TitleSlide.png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4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0B7FD-F351-49A9-A6F5-378DACA9554D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5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AE4BD-D9D4-4700-AC0B-048243439927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E3806-DA00-4DAD-8AA4-9072119D65E7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8" descr="Overlay-SectionHeader.png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3C470-BADE-426C-B231-35C0633A9853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87843-B8C5-4815-AF03-752E45E34C51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6977F-7BE6-4743-829B-5325482C90CD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216" name="Straight Connector 9"/>
          <p:cNvSpPr/>
          <p:nvPr/>
        </p:nvSpPr>
        <p:spPr>
          <a:xfrm>
            <a:off x="874800" y="2286000"/>
            <a:ext cx="356220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traight Connector 10"/>
          <p:cNvSpPr/>
          <p:nvPr/>
        </p:nvSpPr>
        <p:spPr>
          <a:xfrm>
            <a:off x="4816440" y="2286000"/>
            <a:ext cx="356544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traight Connector 11"/>
          <p:cNvSpPr/>
          <p:nvPr/>
        </p:nvSpPr>
        <p:spPr>
          <a:xfrm>
            <a:off x="874800" y="2286000"/>
            <a:ext cx="356220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traight Connector 12"/>
          <p:cNvSpPr/>
          <p:nvPr/>
        </p:nvSpPr>
        <p:spPr>
          <a:xfrm>
            <a:off x="4816440" y="2286000"/>
            <a:ext cx="356544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92E46-BF74-4067-8DE3-81FF3E7E5B6F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EAD97-889E-471F-94B3-A225C2389E54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22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ftr" idx="23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sldNum" idx="24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42A7B-8170-4736-ADBB-BAA884CC99EA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3E96B-1A08-4D32-AE47-F15A9D7A3352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sDocL7AfIRo" TargetMode="External"/><Relationship Id="rId2" Type="http://schemas.openxmlformats.org/officeDocument/2006/relationships/slideLayout" Target="../slideLayouts/slideLayout12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FR4S1BqdFG4&amp;feature=related" TargetMode="External"/><Relationship Id="rId2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2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599840" y="2492280"/>
            <a:ext cx="67626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alking With Students About Mindsets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1599840" y="3967200"/>
            <a:ext cx="67626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My Job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I’m here to teach you, not to judge you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I will help you think, learn and continue to grow smarter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I will have high expectations and will not settle for anything less than your best, but I will show you how to reach those expectations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I will learn with you as I am always wanting to grow smarter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If you are behind (or fall behind), I will teach you how to catch up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5803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Your Job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Be open to learning.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Put in effort to develop your skills to grow smarter EACH day.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Read difficult books and work to understand what you read.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Write everyday.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Help me help you - If you don’t give anything, you can’t expect anything. Success does not come to you, you must come to it.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Be accountable and responsible for your learning - That means more than just showing up.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Homework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Before you fall asleep, and again when you wake up, say to yourself…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Smarter is not something you are. It is something that you get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1371240" y="990360"/>
            <a:ext cx="67626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rebuchet MS"/>
              </a:rPr>
              <a:t>Mind Sets</a:t>
            </a:r>
            <a:endParaRPr b="0" lang="en-US" sz="5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subTitle"/>
          </p:nvPr>
        </p:nvSpPr>
        <p:spPr>
          <a:xfrm>
            <a:off x="1447560" y="2895120"/>
            <a:ext cx="6762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If you fail a test, what are some things your inner voice might say?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If an inner voice says, “I’m stupid…”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Then we need to use cognitive thinking.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We look at the facts and evidence more closely to draw an accurate conclusion.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69608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What questions might we ask in order to get to the truth of the matter?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914400" y="233172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What other reasons might there be (other than stupidity) for failing a test?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769608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After you come to the conclusion that it isn’t stupidity…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lnSpc>
                <a:spcPct val="1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Ask yourself these questions…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What can I learn from this 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How can I improve so I do better next time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Why is this man laughing?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abf24d"/>
                </a:solidFill>
                <a:uFillTx/>
                <a:latin typeface="Trebuchet MS"/>
                <a:hlinkClick r:id="rId1"/>
              </a:rPr>
              <a:t>http://www.youtube.com/watch?v=sDocL7AfIRo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 algn="ctr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 algn="ctr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Why…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Is no one telling these babies that they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are stupid because they don’t know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how to talk using real words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They just haven’t learned yet!!!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7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7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How does the brain work?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abf24d"/>
                </a:solidFill>
                <a:uFillTx/>
                <a:latin typeface="Trebuchet MS"/>
                <a:hlinkClick r:id="rId1"/>
              </a:rPr>
              <a:t>http://www.youtube.com/watch?v=FR4S1BqdFG4&amp;feature=related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/>
          </p:nvPr>
        </p:nvSpPr>
        <p:spPr>
          <a:xfrm>
            <a:off x="837720" y="304560"/>
            <a:ext cx="769644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One day, in a class that is really important to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You, and that you like a lot, the teacher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returns an important paper worth a lot of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points. You got a ‘D’. You are very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disappointed. That evening, on your way back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home, you find a parking ticket on your car.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Frustrated, you call your best friend to share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your experience but are sort of brushed off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What would you think? What would you feel? What would you do? 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Write me a paragraph.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Brain Growth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780" name="Picture 3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Make Synapses!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Ask yourself each night…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What did I learn today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What mistake did I make today that taught me something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Why did I try hard at today? 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What was the result? 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How can I get better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Mind Sets – What They </a:t>
            </a:r>
            <a:r>
              <a:rPr b="1" lang="en-US" sz="3800" spc="-1" strike="noStrike">
                <a:solidFill>
                  <a:srgbClr val="ffff00"/>
                </a:solidFill>
                <a:latin typeface="Trebuchet MS"/>
              </a:rPr>
              <a:t>Think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537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rebuchet MS"/>
              </a:rPr>
              <a:t>Fixed Mindset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Life isn’t fair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Nobody likes me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Things never work out for me.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72392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rebuchet MS"/>
              </a:rPr>
              <a:t>Growth Mindset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I need to try harder in class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I need to be more careful where I park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I wonder if my friend is having a bad day, too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Mind Sets – What They </a:t>
            </a:r>
            <a:r>
              <a:rPr b="1" lang="en-US" sz="3800" spc="-1" strike="noStrike">
                <a:solidFill>
                  <a:srgbClr val="ffff00"/>
                </a:solidFill>
                <a:latin typeface="Trebuchet MS"/>
              </a:rPr>
              <a:t>Do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8556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rebuchet MS"/>
              </a:rPr>
              <a:t>Fixed Mindset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Do nothing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tay in bed all day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at chocolate ice cream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Yell at someone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rebuchet MS"/>
              </a:rPr>
              <a:t>Growth Mindset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tudy a different way and ask for help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Pay the ticket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Work things out with my friend the next time we speak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Think about it …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Was there death and 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destruction, or just a bad 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grade, a ticket and a 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disappointing phone call?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/>
          </p:nvPr>
        </p:nvSpPr>
        <p:spPr>
          <a:xfrm>
            <a:off x="990720" y="6854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Becoming is better than being.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Potential means developing your skills: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with effort 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ver time.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You aren’t a failure until you start to blame.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7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7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7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7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Effort is the </a:t>
            </a:r>
            <a:r>
              <a:rPr b="0" lang="en-US" sz="3800" spc="-1" strike="noStrike">
                <a:solidFill>
                  <a:srgbClr val="ffff00"/>
                </a:solidFill>
                <a:latin typeface="Trebuchet MS"/>
              </a:rPr>
              <a:t>KEY</a:t>
            </a: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 to success!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73960" indent="-27396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People are all born with a love of learning. (think about babies), but a fixed mindset can undo it. 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273960" indent="-27396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hallenge yourself to do something you have never done before - something difficult that you never though you could do. Picture it and think about how you will feel when you have accomplished it.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Picture Thomas Edison inventing the light bulb…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Where is he?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What is he doing?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Describe what you imagine as vividly as you can.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Edison was not a loner!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9720" indent="-27972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He had 30 assistants, including well trained scientists, helping him in a state-of the-art laboratory.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marL="279720" indent="-27972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It did not happen suddenly - It happened over time. It took several attempts.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marL="279720" indent="-27972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Edison never stopped learning and being curious.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0T22:44:56Z</dcterms:created>
  <dc:creator>default</dc:creator>
  <dc:description/>
  <dc:language>en-US</dc:language>
  <cp:lastModifiedBy>Joyce Fouts</cp:lastModifiedBy>
  <dcterms:modified xsi:type="dcterms:W3CDTF">2013-06-20T23:20:59Z</dcterms:modified>
  <cp:revision>33</cp:revision>
  <dc:subject/>
  <dc:title>Talking With Students About Mindsets</dc:title>
</cp:coreProperties>
</file>