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DE32D-D007-48C4-96F6-C9795566DC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64C14-559A-45B5-8F5F-7D4AD667E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F9083-8F67-467E-92E7-35C24538C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BA2D-E66E-4976-A948-A12F30FB4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5764-0EE6-4BFC-8CD0-AAA02CA6B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FA215-27A4-4D8C-8A0A-B02B18176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A3DEF-DD9E-4AD8-83A8-0874980D6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09C770-BC2F-42AD-921C-7C3B1A76C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1567EE-C90F-4FEC-809F-3627169AD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67BEA6-D551-4663-907B-00A0EA8F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815241-6435-4FA3-BB3F-A86800A5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729F49-095D-4D59-8CF4-DE34AB8C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FA010E-7DF9-4AC3-8260-8F3842C05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3BCCA4-97A2-495A-84FE-E7B1A2210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307501-578F-44F6-9703-B5A3006EF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29B2-FC3E-4B6E-A931-34BCDF3FA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FA3CF7-3FC9-4305-80C0-228BA460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C02946-5FF0-4B6D-BCA0-CB885941D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8D4090-6F1C-47E4-AC9A-F4BEE1ABD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482367-77F4-4784-B0B4-FF9A9E4AC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63F3FB-41B1-4ECF-9273-D69DA2B2A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E52483-9F6C-49A1-A133-F81D2BDB2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27CEFA-411F-43C1-BEBA-3FEBD196A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3FEDCD-6588-48FC-BCEC-3359705B5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0DB17A-6EA1-4B1E-BB4C-DE26E1CA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3A31E7-F88C-47C6-B70D-680329C7F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3E85-B866-4D7A-8984-D84FBBE8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A4AF6D-5433-4280-AEFA-F41A76393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C92DE5-93C7-42C4-B706-67E25855C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52B4B-8B25-4474-99BA-74B9AA13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03CB85-D719-4D41-8F56-79C1FB676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1C47E-6F3F-4A6C-A735-9562E097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D8688C-A11B-4438-8E31-FC7E6C121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7BE05-7428-4229-90A2-174B3DB7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5E18B8-C182-4A1A-9FFA-F76A49DE9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F3AB44-D0E8-4B36-8ECE-DEC20236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C246BB-B91B-4153-83B2-84240BE90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150ACD-F1A1-4269-B7BB-5493C300A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3555F-353A-4213-A917-B482873C8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17CBE9-3F01-47C4-8B0B-270E6C246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6E506-79F4-48A4-9559-CBE2E322F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169A12-464D-485E-90AE-C16E93E00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86CF25-D5BA-4255-940E-ED7D8389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96820C-2887-47CD-9DF7-57CF42BD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8CD54E-E081-48DF-BB7F-205B714A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A888E8-BF3E-441B-91AB-ECC5D1CF5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DCC9D3-DFF6-440F-A053-D48B957FE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5D4CA-0D56-4A19-8B73-235655B8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269795-EE92-4364-B90B-055D8D46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E29064-97B6-44E9-8D5A-0473C704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80A1FD-53AB-4F9D-A214-EFCF20F5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C7B9A0-7781-4D87-AAAE-0820F90AE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24F190-929C-45A1-9E1F-2B81052A5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F2057E-1090-4FC3-A295-E316DB95A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C18712-BCD2-48AF-BCEF-FF7EF9A4B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118DFD-A159-4AB5-B248-A9AFA8944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F2BB84-A868-4265-A1B1-90644313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DEDF0B-CB36-480F-A075-906F1A67C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6B5554-D213-488A-8C58-1470B16C4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59830-6B12-417F-B2CD-36A90238E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5659BF-F3CB-4704-A989-037E97749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55FE19-B5D0-4D94-9B43-EBFE95A6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353A56-4685-407A-AC5A-A9F615CF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A49853-8C0A-420C-8FD1-2D4A9337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EB5E43-5BD3-4ADB-B734-F2BC33B41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E25C9D-62DA-4832-8CAA-B47B90B86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4D0191-CED8-46AD-9B35-57EFDF43A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7F23E5-7F78-4691-B93C-5D82CE50D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D19E396-3B32-4F19-8621-0BDFFDF6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0E104A-E183-4807-9DB8-D42DCF01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D78C59-43D7-43C9-912F-4BA2A87D2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1107CD-5EB0-49DA-8CB0-414E2246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F33B5F-F52D-4BDB-8C97-EDDC65BB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450F0B0-245B-4A4A-85F7-44253942F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4B9689-BFC8-43C7-8CB7-1E5C8A54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CA126A-64A5-4542-A579-59F8038D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C1702B-48FD-47DC-AA2E-DCE8813F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65F19D-4BA7-4D29-A34F-C540C4C7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551026-7D17-44EB-AF64-A5D2D8F54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F285DA-A3D5-4523-84C2-76EF51A1E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1CA899-08A7-401E-8028-B9F2B9598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8D9763-55E3-4E4F-8D3E-CF09FE22C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5E22AA-BAE8-4813-AA6E-7FCB041D2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5C0094-0BFD-4545-94D3-E23620E9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94E2EB-AED3-425B-998F-AE191AD8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A6348B-E60C-4C9F-A969-9FD762D1D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60BA4F-1279-4487-82E5-AB767B1B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9D333A-48D6-4AD4-A363-C5CF0C24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EC8065-8644-4DCB-80AF-2EDB6BBD3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9A075E-5A8C-4A92-B1EF-A2BA2C4FD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E969E6-B013-48D1-9C9B-147FF3E9F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814D16-1E0E-46C1-8AFB-A45735F5E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4CD733-7583-41C0-9B8E-6915E1CD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A505F38-599D-4A8D-A245-66F7F87D0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E9CCCD-5705-4E6A-A1D4-E64233CBE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8D0345-FBAA-43AB-B358-966DFCF19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B817AF-6218-4758-8187-E066537B9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AC5EFF-739E-4C90-BCFA-3B10107A8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3AF4E3-58D3-451D-93FE-DFA66920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BB70CAB-A763-4445-B4C0-5BBD18E67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131E4A-403C-4EE8-8A8E-BB06A67F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76D7D7-2C73-4744-ADF5-65531D2A2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6FE6DE-E1D6-45B1-B7FB-AF0636D61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980F11-6854-437B-BDC7-010A5578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2ADB90-8D61-483F-AE94-B1F147B0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04A57F-729A-49F7-8EE7-CA57A2DDC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366BC5-A63B-4DA3-A445-7A7B40C5E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39CF9BD-5331-4F87-8ADB-51CDBF87B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20A90B-E20A-4D85-98D7-926C8E60A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3F12CC-3DF7-498A-BD2F-12F6FE278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D8C74B-EFC3-4D06-A061-233C6FDD0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85B083-480A-4F9E-8201-826BF7C16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AA45FE-B2B5-4A06-B113-650835988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B3FC0D-7EA8-48B8-BBB0-F7A6B7B04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F4E1-6C3C-4C5C-86D1-B750114D7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65B2ED-9D2C-4EED-81EB-2A123214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090AE8-B556-4AA4-8900-D07182FE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0433D2-6BE1-47A3-ABF5-0CC032C1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470E84-FFB1-41A2-90FC-167AE2462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939A79-E137-463D-A6D1-5F8BC2E85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42036F-5B22-4A01-A7CD-14AC22561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780DC-655A-49D2-9658-58CC5854C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75C216-C1BD-425B-A1BD-15664E1E8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CDF279-65C7-4A0C-A136-F2DD49DC1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900AF-912F-4C54-A77E-811283346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3AA96E-9560-4A79-974D-9D5224EA6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FD126-DBF8-4078-8E0E-BCAA3CFC7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70CF8-C54E-4E78-9876-BA4F392F2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BB86BE-188D-4890-9D18-C7C128DC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E53DB-C6A6-4862-A693-8A429F2B0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1A50-A6E6-4751-8A35-1ED2FB30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426041-09BF-4CCC-B763-44FAF75A0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A3087-5005-442A-9C7F-A7DA37D2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87722-B3DD-46FF-8234-D80FEA21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A756BD-656F-43AA-B9AE-91DB187F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87307-27CF-43C0-97DE-D202BB47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ECAC3-376B-4214-9749-84936B030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8559FF-9F90-474C-AF31-E91463BD2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E3F69A-DFC4-476B-AF4C-81F3A849E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95F17-02D0-4F76-8B0F-459C038D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31D5F-3E95-4FC3-A523-B1A04F9AC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0CDD-BB0D-4045-8D57-CF2B0BB5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753F29-47B6-499F-BF8B-1C8DD9F7A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83627-7BEB-4A32-B8F3-AFB57959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754322-682E-4C83-865C-0767F357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FDB530-A1AA-4C51-B42D-41F0C79E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A3A4D-BE10-4367-9CE5-426C9CE0A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69E9A-AE88-4DBE-BF61-671C8C31C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9D6447-46A8-437F-A337-15F74CA1A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41FB1-B6AC-4384-96CB-2C27FE04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B26400-C50F-4877-9660-6026750D1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46A10-63B6-4B47-AA8F-06233A599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6BAC-CC03-42EC-9B1D-031B3EBF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759375-21E6-4004-A611-24EEF879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0B9E4-55C7-4466-B5AD-8C0F98FB3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D7B19-96D6-418B-A9F6-A946375A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35196-9C8A-41BB-9641-CD9879307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95C31-D17A-4ADF-A0B7-FEC7D599F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07DBC7-0F96-4C21-A922-311F7F2E9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7BE831-49CC-4B32-B117-91734BCC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C387F-A900-44FF-99DA-789D6EB2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71588-D982-41B8-AC5F-CB485FC4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C94E5-CE14-4B44-9CA4-F6A39E1CB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914A-FDA9-40DC-BAB7-CADA0EE46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18E067-5DE1-45AF-9009-9E6009B84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9B4EE-FB87-4D6D-9507-3DC509264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BDB3A-595D-42BF-9DD0-F5293598A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DD258C-AAC3-4F6B-8EB4-60D28D6D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6BBF9-409E-4C33-8EBE-0B543490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DC575-6C8D-47CC-97D3-F4B78F0F5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9C5B81-9E34-491B-9055-6288766F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3E19AB-4AAE-44CA-B08D-579B33C26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EEB3E-6E86-4E48-8C79-CD7B022D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E68CD4-01A0-4375-8DC0-A0DED3802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B489-2F53-4E9D-8044-861F5BB7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AF5F9-FD08-4D32-A965-D6811B8A7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BBD83-30B5-4350-932D-FB1025B74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73E70-91A8-48F7-820B-C3ECB7258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9D2A53-45E0-45E8-AF7E-D8BB52D99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7064C2-651B-45A1-AF39-0956D5F2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DF9D0F-4020-4DEB-840B-8D288F39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AF4BA9-C472-46F0-8053-FE8B7EF2C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39445-ABB7-48C5-911D-D67F999D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A136CB-F2EC-4686-8936-33D384101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876B99-C455-494B-9F60-93B7D88C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DF6D-1A3B-496C-BDC2-ED6F56BA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25AD53-C79B-48C8-B711-AA338EF8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45F70-3BC8-4676-B18A-F5EE73C7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22A84-D819-4722-83AB-1AF2C390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F13F4C-BFB7-4187-A75D-37FCDC248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B6A78-A6FE-45D1-862C-6BCC06CD5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B82D46-0C88-46D4-B10A-FFDA842AD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DEB0B7-6298-4036-9EC9-0C346A3E7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67C06-5413-49C8-AB98-7FEA03382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4244A-3EF8-4D24-B95A-F556B23AC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43FFA-AA3C-40F0-8AD3-F6D5F5E2E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BEA5-D67B-407B-AF9A-0481C8A5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9E055-5113-46A8-8F43-DD17BCC1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08B54-7E16-4AF6-A204-D95B5EEF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BCA5C-8CAA-4D01-82E7-7C855E921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8CB006-C156-4035-951B-D918B82A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8FFBE-A3FA-460D-92E8-8B6B2B5E4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A8384B-A9DE-46B7-A7FC-DC5105E66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F6DCC5-69F1-47E8-9D1B-6C0BDC4A6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5C2762-8002-4F58-9555-AED3F3F27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F773F1-4A6E-4D27-98F6-9964A48E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98CEC-C31E-4E7E-803D-E78105CF1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38188-DF41-46C1-AE0F-22BEE4746712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DE17A-ACC2-4A5D-A7CA-5D971A9D9652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DA89-38A5-46A0-9F03-4AC0EBFBB7C3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8" descr="Overlay-ContentCaption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4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5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6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86CEB-DDE9-4801-B263-C295B5426BD8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8" descr="Overlay-PictureCaption.png"/>
          <p:cNvPicPr/>
          <p:nvPr/>
        </p:nvPicPr>
        <p:blipFill>
          <a:blip r:embed="rId2"/>
          <a:stretch/>
        </p:blipFill>
        <p:spPr>
          <a:xfrm>
            <a:off x="449280" y="187200"/>
            <a:ext cx="8535960" cy="648360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7"/>
          </p:nvPr>
        </p:nvSpPr>
        <p:spPr>
          <a:xfrm>
            <a:off x="388584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8"/>
          </p:nvPr>
        </p:nvSpPr>
        <p:spPr>
          <a:xfrm>
            <a:off x="5866920" y="6288120"/>
            <a:ext cx="2676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9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A38A-0090-4A99-9983-9435FCA8E772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8" descr="Overlay-PictureCaption-Extras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380880" y="6288120"/>
            <a:ext cx="186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32532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0317A-82B1-464F-A029-D08D3045DA6D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8" descr="Overlay-PictureCaption-Extras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380880" y="6288120"/>
            <a:ext cx="186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32532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CBAAA-4D3F-4064-B73C-BEF52E85B225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46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47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48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A315-70E7-4D45-B8F0-A53F569B3096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49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50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51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0DCD-1951-4AF0-BE7A-EB63AB91CB07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Overlay-TitleSlide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86BC8-2EE4-42FE-9E68-EFC43FA9D240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5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8796B-8363-4C8E-B0D7-97A6E3226FCE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11774-0C9A-45B9-BA42-999C68A43B9B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Overlay-SectionHeader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3705-10EE-4D14-ABF6-491196C861B8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57ACE-7B6D-4C15-83E4-9C3FC114ACD1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4902-DA06-4AC8-AC9A-02B14AC779A4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16" name="Straight Connector 9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10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1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12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1C83F-D433-4C5D-B082-F48B40B9516A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D6ACD-6ADD-4FE9-9F31-F9162E5DFAA7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EC9B-883E-4164-9160-7F8270715FEF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D7B9-79A5-43FA-BFB6-06ADB43C19D4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DocL7AfIRo" TargetMode="External"/><Relationship Id="rId2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FR4S1BqdFG4&amp;feature=related" TargetMode="External"/><Relationship Id="rId2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2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599840" y="2492280"/>
            <a:ext cx="67626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alking With Students About Mindsets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1599840" y="3967200"/>
            <a:ext cx="67626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My Job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’m here to teach you, not to judge you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 will help you think, learn and continue to grow smarter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 will have high expectations and will not settle for anything less than your best, but I will show you how to reach those expectations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 will learn with you as I am always wanting to grow smarter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f you are behind (or fall behind), I will teach you how to catch up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5803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Your Job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e open to learning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Put in effort to develop your skills to grow smarter EACH day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Read difficult books and work to understand what you read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rite everyday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Help me help you - If you don’t give anything, you can’t expect anything. Success does not come to you, you must come to it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e accountable and responsible for your learning - That means more than just showing up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Homework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efore you fall asleep, and again when you wake up, say to yourself…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Smarter is not something you are. It is something that you get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67626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rebuchet MS"/>
              </a:rPr>
              <a:t>Mind Sets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1447560" y="2895120"/>
            <a:ext cx="6762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f you fail a test, what are some things your inner voice might say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If an inner voice says, “I’m stupid…”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Then we need to use cognitive thinking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We look at the facts and evidence more closely to draw an accurate conclusion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69608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What questions might we ask in order to get to the truth of the matter?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914400" y="233172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What other reasons might there be (other than stupidity) for failing a test?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69608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After you come to the conclusion that it isn’t stupidity…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Ask yourself these questions…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What can I learn from this 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How can I improve so I do better next time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Why is this man laughing?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abf24d"/>
                </a:solidFill>
                <a:uFillTx/>
                <a:latin typeface="Trebuchet MS"/>
                <a:hlinkClick r:id="rId1"/>
              </a:rPr>
              <a:t>http://www.youtube.com/watch?v=sDocL7AfIRo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 algn="ctr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 algn="ctr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Why…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Is no one telling these babies that they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are stupid because they don’t know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how to talk using real words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They just haven’t learned yet!!!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How does the brain work?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abf24d"/>
                </a:solidFill>
                <a:uFillTx/>
                <a:latin typeface="Trebuchet MS"/>
                <a:hlinkClick r:id="rId1"/>
              </a:rPr>
              <a:t>http://www.youtube.com/watch?v=FR4S1BqdFG4&amp;feature=related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/>
          </p:nvPr>
        </p:nvSpPr>
        <p:spPr>
          <a:xfrm>
            <a:off x="837720" y="304560"/>
            <a:ext cx="7696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ne day, in a class that is really important to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You, and that you like a lot, the teache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turns an important paper worth a lot of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oints. You got a ‘D’. You are very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disappointed. That evening, on your way back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home, you find a parking ticket on your car.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Frustrated, you call your best friend to share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your experience but are sort of brushed off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What would you think? What would you feel? What would you do?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Write me a paragraph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Brain Growth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80" name="Picture 3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Make Synapses!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Ask yourself each night…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at did I learn today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at mistake did I make today that taught me something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y did I try hard at today?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at was the result?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How can I get better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Mind Sets – What They </a:t>
            </a:r>
            <a:r>
              <a:rPr b="1" lang="en-US" sz="3800" spc="-1" strike="noStrike">
                <a:solidFill>
                  <a:srgbClr val="ffff00"/>
                </a:solidFill>
                <a:latin typeface="Trebuchet MS"/>
              </a:rPr>
              <a:t>Think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37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Fixed Mindse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ife isn’t fair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Nobody likes me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ings never work out for me.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72392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Growth Mindse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 need to try harder in class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 need to be more careful where I park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 wonder if my friend is having a bad day, too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Mind Sets – What They </a:t>
            </a:r>
            <a:r>
              <a:rPr b="1" lang="en-US" sz="3800" spc="-1" strike="noStrike">
                <a:solidFill>
                  <a:srgbClr val="ffff00"/>
                </a:solidFill>
                <a:latin typeface="Trebuchet MS"/>
              </a:rPr>
              <a:t>Do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8556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Fixed Mindse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Do nothing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tay in bed all day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at chocolate ice cream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Yell at someon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Growth Mindse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tudy a different way and ask for help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ay the ticke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ork things out with my friend the next time we speak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Think about it …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Was there death and 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destruction, or just a bad 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grade, a ticket and a 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disappointing phone call?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/>
          </p:nvPr>
        </p:nvSpPr>
        <p:spPr>
          <a:xfrm>
            <a:off x="990720" y="6854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Becoming is better than being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Potential means developing your skills: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ith effort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ver time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You aren’t a failure until you start to blame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7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Effort is the </a:t>
            </a:r>
            <a:r>
              <a:rPr b="0" lang="en-US" sz="3800" spc="-1" strike="noStrike">
                <a:solidFill>
                  <a:srgbClr val="ffff00"/>
                </a:solidFill>
                <a:latin typeface="Trebuchet MS"/>
              </a:rPr>
              <a:t>KEY</a:t>
            </a: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 to success!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73960" indent="-27396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People are all born with a love of learning. (think about babies), but a fixed mindset can undo it.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73960" indent="-27396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hallenge yourself to do something you have never done before - something difficult that you never though you could do. Picture it and think about how you will feel when you have accomplished it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Picture Thomas Edison inventing the light bulb…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here is he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hat is he doing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escribe what you imagine as vividly as you can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Edison was not a loner!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9720" indent="-27972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He had 30 assistants, including well trained scientists, helping him in a state-of the-art laboratory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79720" indent="-27972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It did not happen suddenly - It happened over time. It took several attempts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79720" indent="-27972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Edison never stopped learning and being curious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0T22:44:56Z</dcterms:created>
  <dc:creator>default</dc:creator>
  <dc:description/>
  <dc:language>en-US</dc:language>
  <cp:lastModifiedBy>Joyce Fouts</cp:lastModifiedBy>
  <dcterms:modified xsi:type="dcterms:W3CDTF">2013-06-20T23:20:59Z</dcterms:modified>
  <cp:revision>33</cp:revision>
  <dc:subject/>
  <dc:title>Talking With Students About Mindsets</dc:title>
</cp:coreProperties>
</file>