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FE09-0BDC-43A0-9117-CFDACB14D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12AD-AF01-4B5B-A5DA-AC6C50248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3137-D0B6-4D0E-BEE5-697AEA815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18AF-F38A-4496-B943-2FAF7C209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C916E-21F6-4DC2-A2FD-710B36F57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E64E16-14A8-4018-A350-8C19CF5E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3D819-3AB7-457D-9BED-97088533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EE205-D2E1-4A9B-B645-B79AE31E0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A19B5F-427F-45AE-A86A-E155547F9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85AD53-2EA2-42F7-A80D-F1A9E4A51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5E0087-A4ED-437C-9C53-7C7258F3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3920-096D-49E6-93F0-C4B3B0BC2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954535-A6A3-4BB6-A672-DC4F40B4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44BB70-580C-428D-B80D-3D4B5A8A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689CB6-829C-4A30-AC8F-C6601F20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0226FA-4372-499C-9E3F-F272AE869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E569A-CE48-43C0-94A0-5B15162E1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8619A-1778-4E70-AC78-6662C705F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27567C-1939-4EC4-839C-FC21601B0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4CAFB-DEB6-40F1-9BB2-04B52A7C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8CE8D7-D93C-4C63-970B-126E444F4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F917C-F662-44FF-8229-657276E37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0E0A-D0A1-4660-BCC6-78F805D6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E8D8A-719D-459C-94AC-3F2C40C3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E6739-BEBD-454B-9CC5-164071CD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C0F378-E88B-48B1-A718-333068D1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ACFE5-E664-4804-947A-051FE4EA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A9C9E-2820-4153-824E-37F21D2B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52401-76D9-4527-BE36-70589B97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707ED5-8D8C-403F-9BD7-A71B1143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1A1432-3BAE-4D76-A234-03C9008B5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7449D7-B267-4B96-9C2A-B0C823223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180A95-F58F-42B2-872F-40BF6F03E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4815-13BA-43ED-A177-51FCC5992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F17B5B-97D0-4EE8-9B4F-06902242C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9D019CA-BF95-4B35-87BD-D3B25BA8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87E758-EBCB-40A3-8AF7-78874C043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071282-6E9A-4221-87BA-374DF1956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24825F7-06D1-462B-8199-BF683CE0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6779CF-1353-4F7A-8B45-A1145FC2C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BCB7F8B-069D-4649-B24A-19AD1D8F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69081E-C993-47A3-B6FC-EC4CE07FD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F6D1AE-3132-4A99-9B63-3DB172590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0767-64F1-45E8-B30D-E7136DEC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AFC8-388F-4A23-83F6-C0F13296C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79B7-AC39-4BBC-ACCA-8E7B8B5D3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7155-78BE-4E9D-A163-ACD18616E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0954-28A2-438B-B53C-8732B51F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0FF15-F03D-4735-AE56-FC9BD09D4042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Straight Connector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Oval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842f73"/>
          </a:solidFill>
          <a:ln w="38160">
            <a:solidFill>
              <a:srgbClr val="842f73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A10E5-BC7C-49D6-9E0C-27E111215DFA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traight Connector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9D799-4396-49EC-9A8B-0F823B344F3E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traight Connector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Straight Connector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8ea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842f7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5f2053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742864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A09F-F412-40CC-9F81-A74B2C265C7C}" type="slidenum">
              <a:rPr b="0" lang="en-US" sz="1600" spc="-1" strike="noStrike">
                <a:solidFill>
                  <a:srgbClr val="d7c8f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7c8f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7c8f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1" descr="einstein-clipart.gif"/>
          <p:cNvPicPr/>
          <p:nvPr/>
        </p:nvPicPr>
        <p:blipFill>
          <a:blip r:embed="rId1"/>
          <a:stretch/>
        </p:blipFill>
        <p:spPr>
          <a:xfrm>
            <a:off x="247680" y="533520"/>
            <a:ext cx="8896320" cy="609588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"/>
          <p:cNvSpPr/>
          <p:nvPr/>
        </p:nvSpPr>
        <p:spPr>
          <a:xfrm>
            <a:off x="4648320" y="1676520"/>
            <a:ext cx="3581280" cy="1447560"/>
          </a:xfrm>
          <a:prstGeom prst="rect">
            <a:avLst/>
          </a:prstGeom>
          <a:solidFill>
            <a:srgbClr val="007600"/>
          </a:solidFill>
          <a:ln w="38160">
            <a:solidFill>
              <a:srgbClr val="007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Box 4"/>
          <p:cNvSpPr/>
          <p:nvPr/>
        </p:nvSpPr>
        <p:spPr>
          <a:xfrm>
            <a:off x="4800600" y="1523880"/>
            <a:ext cx="3733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Smart is something you GET, not something you ar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4" name="TextBox 2"/>
          <p:cNvSpPr/>
          <p:nvPr/>
        </p:nvSpPr>
        <p:spPr>
          <a:xfrm>
            <a:off x="1828800" y="1828800"/>
            <a:ext cx="571500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tantia"/>
              </a:rPr>
              <a:t>You Can Grow Your Intelligen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Constantia"/>
              </a:rPr>
              <a:t>New Research Shows the Brain Can Be Developed Like a Mus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2"/>
          <p:cNvSpPr/>
          <p:nvPr/>
        </p:nvSpPr>
        <p:spPr>
          <a:xfrm>
            <a:off x="1828800" y="1600200"/>
            <a:ext cx="5715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00"/>
                </a:solidFill>
                <a:uFillTx/>
                <a:latin typeface="Constantia"/>
              </a:rPr>
              <a:t>MINDSET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nstantia"/>
              </a:rPr>
              <a:t>The ideas and attitudes with which a person approaches a situ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78" name="TextBox 3"/>
          <p:cNvSpPr/>
          <p:nvPr/>
        </p:nvSpPr>
        <p:spPr>
          <a:xfrm>
            <a:off x="1828800" y="1981080"/>
            <a:ext cx="563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nstantia"/>
              </a:rPr>
              <a:t>FIXED MINDS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The belief that your basic qualities, such as intelligence or talent, are fixed trai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3"/>
          <p:cNvSpPr/>
          <p:nvPr/>
        </p:nvSpPr>
        <p:spPr>
          <a:xfrm>
            <a:off x="1828800" y="1981080"/>
            <a:ext cx="5638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Constantia"/>
              </a:rPr>
              <a:t>GROWTH MINDSE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The belief that your basic abilities can be developed through dedication and hard wor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" descr="school_chalkboard.gif"/>
          <p:cNvPicPr/>
          <p:nvPr/>
        </p:nvPicPr>
        <p:blipFill>
          <a:blip r:embed="rId1"/>
          <a:stretch/>
        </p:blipFill>
        <p:spPr>
          <a:xfrm>
            <a:off x="343080" y="457200"/>
            <a:ext cx="8800920" cy="55008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3"/>
          <p:cNvSpPr/>
          <p:nvPr/>
        </p:nvSpPr>
        <p:spPr>
          <a:xfrm>
            <a:off x="1828800" y="2743200"/>
            <a:ext cx="5638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nstantia"/>
              </a:rPr>
              <a:t>Which mindset do you hav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2:11:35Z</dcterms:created>
  <dc:creator>Kim</dc:creator>
  <dc:description/>
  <dc:language>en-US</dc:language>
  <cp:lastModifiedBy>Kim</cp:lastModifiedBy>
  <dcterms:modified xsi:type="dcterms:W3CDTF">2013-08-25T01:03:46Z</dcterms:modified>
  <cp:revision>4</cp:revision>
  <dc:subject/>
  <dc:title>Slide 1</dc:title>
</cp:coreProperties>
</file>