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B530-D2BE-4006-8CC2-C3B47FC281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8167-7986-4E1F-8B12-4F3CFC915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3FBF-4026-42FC-88F0-9D0C88431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4D36-33D9-41E8-B667-9F4A21DCC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A64CDA-1A28-4E72-B2AC-7EEC2CD8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358393-BA60-4D13-9E9E-8A7BAB3ED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BFCAE-9893-45BE-BD72-3F5D311C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A8067-76E4-4ABA-A566-2F421167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705AAE-CC28-4D11-BD38-75B287B2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9DDCF4-4567-4E24-B300-E17D845C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1F3B60-4E09-4EFD-9ADF-84482E04A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B485-3128-4AEA-94D2-17D6467C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97332-D690-4E89-B6F6-B14BB1BA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9C24D5-E7EA-4415-A3A4-B7F2B73C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FBEAB4-78CD-4973-BB5A-469E8B9AF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BF4714-F7C1-4840-828C-436A1415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397AA-B1A0-4CDA-8A0D-6EAA486C0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C1AA1-11C7-4C8B-8C2C-10509A52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6D98D-7681-4C69-B8AD-9D4A3A502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64FCB-4322-4D97-A9F9-193EC463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A3ED8D-28E9-458E-B6C3-5B0E8F26C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3E2A4A-7D5E-4AEE-96AE-A1E43BE2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8689-37A7-47FD-A611-7FCA50205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6B841-2322-4472-97E7-166FCB0DA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61262-7C5E-4277-81FE-15A44AE5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FE27A0-73AE-401F-B351-0B1479E3E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46562-86F5-4731-A2B5-C72E246F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4B601F-4ECA-4D09-ACAF-9AFF34E5D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8B0AA-DF46-432D-AED6-4DBA38E8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29074-0468-4152-865D-B179DA2EE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4E7EE5-2A9B-40B3-8A09-99EB18C9F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EF6D06-7E25-4832-AB93-F4B96088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1F4C70-3838-4F6C-9754-6C9E7C54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63A2-B804-476E-9563-03E48E7C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C00D6A-0379-423F-863A-AB4B349C9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4EB871-D8A8-48AB-9C90-803F2AFD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7D73B4-F332-4791-A548-18AF1478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38C027C-EA48-4D8C-B6D3-AFAA39AB7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FD3575-890A-48B3-91D1-043674AFA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86CE7E-167F-4651-A0D0-FFB50B4C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D096AA-C368-47CD-9DF0-5AA5BB79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35119A-C984-4F80-A06F-29BAF6379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5D8400-D33B-4445-9E69-57296DBAA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FBC-EC1D-4467-AA7F-0D61E9EE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F347-417C-40AB-AD77-E4550E46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E37EE-DB8F-472F-A952-5F32382BD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D808-6BC0-4583-B50B-906473EB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0AFE-CD30-45E7-BCD9-47F78CD83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84B5-B9E0-4C72-A066-7678722096E0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42f73"/>
          </a:solidFill>
          <a:ln w="38160">
            <a:solidFill>
              <a:srgbClr val="842f73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A727-0E5D-45C1-A803-1223259EC87F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B2C8-2B79-40BC-A450-BF199B7CA5A8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5931F-71FE-4B2D-8C41-698F18258FD2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einstein-clipart.gif"/>
          <p:cNvPicPr/>
          <p:nvPr/>
        </p:nvPicPr>
        <p:blipFill>
          <a:blip r:embed="rId1"/>
          <a:stretch/>
        </p:blipFill>
        <p:spPr>
          <a:xfrm>
            <a:off x="247680" y="533520"/>
            <a:ext cx="8896320" cy="6095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4648320" y="1676520"/>
            <a:ext cx="3581280" cy="1447560"/>
          </a:xfrm>
          <a:prstGeom prst="rect">
            <a:avLst/>
          </a:prstGeom>
          <a:solidFill>
            <a:srgbClr val="007600"/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4800600" y="152388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Smart is something you GET, not something you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828800" y="1828800"/>
            <a:ext cx="5715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You Can Grow Your Intelli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New Research Shows the Brain Can Be Developed Like a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828800" y="1600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onstantia"/>
              </a:rPr>
              <a:t>MINDSE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The ideas and attitudes with which a person approaches a sit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FIXED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qualities, such as intelligence or talent, are fixed tra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GROWTH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abilities can be developed through dedication and har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1828800" y="2743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Which mindset do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2:11:35Z</dcterms:created>
  <dc:creator>Kim</dc:creator>
  <dc:description/>
  <dc:language>en-US</dc:language>
  <cp:lastModifiedBy>Kim</cp:lastModifiedBy>
  <dcterms:modified xsi:type="dcterms:W3CDTF">2013-08-25T01:03:46Z</dcterms:modified>
  <cp:revision>4</cp:revision>
  <dc:subject/>
  <dc:title>Slide 1</dc:title>
</cp:coreProperties>
</file>