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FDA-4290-412B-AF2B-3235C5DD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61F-9B64-429F-AFE5-7D86B318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A35-0664-4DF0-8D08-FB79D0AA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E03-88D5-4FE1-B728-0B942628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72941-F471-4DBE-9C46-06B0F668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1EF76-35B5-4140-B3E6-D889B185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E4434-6B6A-41EA-8562-5BEB86EA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E4343-86AD-4883-B0DD-F765B246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4D9D9-2CC2-4C84-BE36-E8B2D8D5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DB48C-C110-4449-94C9-409ABC95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FFB41-5224-4A60-A333-6B63BE44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1A2-3F35-4833-99A8-5FDED523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2443E-5C56-4611-9C1D-0DC5086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33816-BF6C-404F-9523-2D234424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FCBB7-9449-4DF3-8B79-030260B3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0EA13-A0E8-465B-B50A-2A162C17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EC51A-63BE-43C6-AAF6-5BA5A589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A988-FE3B-4343-AE0F-B614A35E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DB002-A8D0-4984-9E7C-F9F04225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CF25-87F0-4E85-AC75-3901AFB7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FF5A-42FB-420F-A5F2-2DA1B5F2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2B49-B715-497C-BECA-026196A9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353-B2F5-452C-BE59-A625CED3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5A08-47BB-40D1-8A90-D1E7032A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F52E-2056-4A0A-9497-827CF7E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C736-29C2-4376-B51F-C5E5302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2EE4-C1E3-4689-82B3-BE2DD6A7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E87BC-6AE9-4AB5-9898-A69414B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CEED-BFF0-4723-92E3-C2FEC490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94A8-DB67-48D3-9B61-7CF521EB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A1CBE1-9E5D-40AF-839C-9FE6A902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6FE3E-DD75-4DE2-9898-31EB8A19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3D1F61-A7A3-49C9-B190-BFAEB406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73C-35EE-4AB7-84E2-66E4C1CF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42A1B-D0EE-4139-B7B5-AB5DC22E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9B2FB-A9EF-442D-9C56-03D8D8D4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38615-4601-4236-AE52-C7528CD4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FFD4C-0ADB-4DD9-B007-404F8D0A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360FF-EB8E-45BA-A49D-50BD1554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72778-EB31-43A9-BF6E-BE9CE90E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83A888-C1B2-4506-843A-E706D020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3E8C3-2663-4D72-89E8-35FF6FDC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28805-1A7B-4324-B06F-697F6212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A35-231A-46D0-A338-668E875A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96E-B4B1-4A6E-A622-8CA36BE3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5EA-9740-4FCA-9FA6-B6AF54D9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A28-683C-4C1E-A07F-3B90D9D8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B12-C640-4EF7-927B-B29D1B1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8D45-18ED-47BA-83AC-EACA9EF7BC50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842f73"/>
          </a:solidFill>
          <a:ln w="38160">
            <a:solidFill>
              <a:srgbClr val="842f73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21EC-96B1-4E84-BB30-CC93DE8D467B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CCCB-BB2C-4EEA-A20C-78BEF4B23562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2FDC-E1CE-47D1-A009-476C3DB98E52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einstein-clipart.gif"/>
          <p:cNvPicPr/>
          <p:nvPr/>
        </p:nvPicPr>
        <p:blipFill>
          <a:blip r:embed="rId1"/>
          <a:stretch/>
        </p:blipFill>
        <p:spPr>
          <a:xfrm>
            <a:off x="247680" y="533520"/>
            <a:ext cx="8896320" cy="6095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4648320" y="1676520"/>
            <a:ext cx="3581280" cy="1447560"/>
          </a:xfrm>
          <a:prstGeom prst="rect">
            <a:avLst/>
          </a:prstGeom>
          <a:solidFill>
            <a:srgbClr val="007600"/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4800600" y="152388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Smart is something you GET, not something you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828800" y="1828800"/>
            <a:ext cx="5715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You Can Grow Your Intellig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nstantia"/>
              </a:rPr>
              <a:t>New Research Shows the Brain Can Be Developed Like a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1828800" y="16002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onstantia"/>
              </a:rPr>
              <a:t>MINDSE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The ideas and attitudes with which a person approaches a sit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FIXED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qualities, such as intelligence or talent, are fixed tra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GROWTH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abilities can be developed through dedication and hard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1828800" y="27432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Which mindset do you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2:11:35Z</dcterms:created>
  <dc:creator>Kim</dc:creator>
  <dc:description/>
  <dc:language>en-US</dc:language>
  <cp:lastModifiedBy>Kim</cp:lastModifiedBy>
  <dcterms:modified xsi:type="dcterms:W3CDTF">2013-08-25T01:03:46Z</dcterms:modified>
  <cp:revision>4</cp:revision>
  <dc:subject/>
  <dc:title>Slide 1</dc:title>
</cp:coreProperties>
</file>